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29.jpeg" ContentType="image/jpeg"/>
  <Override PartName="/ppt/media/image5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1.png" ContentType="image/png"/>
  <Override PartName="/ppt/media/image22.wmf" ContentType="image/x-wmf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2946240" y="6504120"/>
            <a:ext cx="44182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NuFact 05 J.E Campagne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29280" y="6486480"/>
            <a:ext cx="2062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4410-5F27-4439-88F2-2AF0400725D0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1008" t="3125" r="60141" b="3125"/>
          <a:stretch/>
        </p:blipFill>
        <p:spPr>
          <a:xfrm>
            <a:off x="0" y="0"/>
            <a:ext cx="596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152280"/>
            <a:ext cx="1670040" cy="658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nf.infn.it/conference/2005/nufact05/NUFACT05_poster_big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89120"/>
            <a:ext cx="9144000" cy="5594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63880" y="2160360"/>
            <a:ext cx="3262320" cy="89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Comic Sans MS"/>
              </a:rPr>
              <a:t>SPL</a:t>
            </a: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4000" spc="-1" strike="noStrike">
                <a:solidFill>
                  <a:srgbClr val="003399"/>
                </a:solidFill>
                <a:latin typeface="Comic Sans MS"/>
              </a:rPr>
              <a:t>Fréjus</a:t>
            </a:r>
            <a:endParaRPr b="0" lang="en-US" sz="4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6280" y="3368520"/>
            <a:ext cx="7696080" cy="183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Monotype Corsiva"/>
              </a:rPr>
              <a:t>J-E Campagn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Linear Accelerator Laboratory – Orsay – Franc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Thanks: A. Cazes, M. Mezzetto, Th. Schwetz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              </a:t>
            </a: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and the GLoBES team 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              </a:t>
            </a:r>
            <a:r>
              <a:rPr b="0" lang="en-GB" sz="1400" spc="-1" strike="noStrike">
                <a:solidFill>
                  <a:srgbClr val="003399"/>
                </a:solidFill>
                <a:latin typeface="Comic Sans MS"/>
              </a:rPr>
              <a:t>and AM Lombardi, R. Garoby</a:t>
            </a:r>
            <a:endParaRPr b="0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Horn design parameter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657600" y="1128600"/>
            <a:ext cx="4876920" cy="2287800"/>
            <a:chOff x="3657600" y="1128600"/>
            <a:chExt cx="4876920" cy="228780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920" cy="22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257" name=""/>
            <p:cNvSpPr/>
            <p:nvPr/>
          </p:nvSpPr>
          <p:spPr>
            <a:xfrm>
              <a:off x="4038480" y="3195720"/>
              <a:ext cx="38102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62520" y="3048120"/>
              <a:ext cx="2361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0052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5308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24680" y="2014560"/>
              <a:ext cx="60984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95000" y="171936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265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/>
          <p:cNvSpPr/>
          <p:nvPr/>
        </p:nvSpPr>
        <p:spPr>
          <a:xfrm>
            <a:off x="4006800" y="444168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83920" y="1487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ductor thickness : 3m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rn : 3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flector : 6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llenging!!!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63480" y="4097160"/>
            <a:ext cx="2836800" cy="17701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74640" y="56894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5600" y="60818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3080" y="359424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rawing from the horn built at CER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mized for Super Beam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0080" y="5338800"/>
            <a:ext cx="41292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+ or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Decay Tunnel Parameter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83960" y="1143000"/>
            <a:ext cx="423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ength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odify purit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L=10m, 20m, 40m and 60m have been tested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0m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0m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 50% to 7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50% to 10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60840" indent="-5173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0m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60m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5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30200" indent="-44316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+ 2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40m seems better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84600" y="1155600"/>
            <a:ext cx="4346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Radiu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odify acceptanc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=1m, 1.5m and 2m have been Tested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m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m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L=40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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5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e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+50% to 70%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Larger is better (2m)…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4797360" y="4925880"/>
            <a:ext cx="3311640" cy="16578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This results have been checked on sensitivity to </a:t>
            </a:r>
            <a:r>
              <a:rPr b="0" lang="en-GB" sz="24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Tahoma"/>
              </a:rPr>
              <a:t>13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and </a:t>
            </a:r>
            <a:r>
              <a:rPr b="0" lang="en-GB" sz="24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Tahoma"/>
              </a:rPr>
              <a:t>CP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28640" y="3765600"/>
            <a:ext cx="16380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41600" y="415908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11360" y="494496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23960" y="5307120"/>
            <a:ext cx="163440" cy="0"/>
          </a:xfrm>
          <a:prstGeom prst="line">
            <a:avLst/>
          </a:prstGeom>
          <a:ln w="3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008760" y="3435480"/>
            <a:ext cx="214200" cy="355320"/>
            <a:chOff x="6008760" y="3435480"/>
            <a:chExt cx="214200" cy="355320"/>
          </a:xfrm>
        </p:grpSpPr>
        <p:sp>
          <p:nvSpPr>
            <p:cNvPr id="282" name=""/>
            <p:cNvSpPr/>
            <p:nvPr/>
          </p:nvSpPr>
          <p:spPr>
            <a:xfrm>
              <a:off x="6008760" y="3435480"/>
              <a:ext cx="1634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059520" y="3790800"/>
              <a:ext cx="163440" cy="0"/>
            </a:xfrm>
            <a:prstGeom prst="line">
              <a:avLst/>
            </a:prstGeom>
            <a:ln w="3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33320" y="985680"/>
            <a:ext cx="5276880" cy="546912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xes comparison @ 130k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225600" y="4348080"/>
            <a:ext cx="6191280" cy="730800"/>
            <a:chOff x="3225600" y="4348080"/>
            <a:chExt cx="6191280" cy="730800"/>
          </a:xfrm>
        </p:grpSpPr>
        <p:sp>
          <p:nvSpPr>
            <p:cNvPr id="287" name=""/>
            <p:cNvSpPr/>
            <p:nvPr/>
          </p:nvSpPr>
          <p:spPr>
            <a:xfrm>
              <a:off x="3747960" y="4348080"/>
              <a:ext cx="544896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275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4.5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3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100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225600" y="4556160"/>
              <a:ext cx="996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43800" y="4680000"/>
              <a:ext cx="36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Old 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ct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465000" y="2660760"/>
            <a:ext cx="5945760" cy="762120"/>
            <a:chOff x="3465000" y="2660760"/>
            <a:chExt cx="5945760" cy="762120"/>
          </a:xfrm>
        </p:grpSpPr>
        <p:sp>
          <p:nvSpPr>
            <p:cNvPr id="291" name=""/>
            <p:cNvSpPr/>
            <p:nvPr/>
          </p:nvSpPr>
          <p:spPr>
            <a:xfrm>
              <a:off x="3747960" y="2660760"/>
              <a:ext cx="544896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300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1.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4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100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3465000" y="2841120"/>
              <a:ext cx="698760" cy="2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08720" y="3024000"/>
              <a:ext cx="390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.5GeV SPL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3747960" y="3562200"/>
            <a:ext cx="544896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&lt;E</a:t>
            </a:r>
            <a:r>
              <a:rPr b="1" lang="fr-FR" sz="20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&gt; ~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245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 MeV,  </a:t>
            </a:r>
            <a:r>
              <a:rPr b="1" lang="fr-FR" sz="2000" spc="-1" strike="noStrike">
                <a:solidFill>
                  <a:srgbClr val="00cc00"/>
                </a:solidFill>
                <a:latin typeface="Arial"/>
              </a:rPr>
              <a:t>7.5 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10</a:t>
            </a:r>
            <a:r>
              <a:rPr b="1" lang="fr-FR" sz="2000" spc="-1" strike="noStrike" baseline="30000">
                <a:solidFill>
                  <a:srgbClr val="000099"/>
                </a:solidFill>
                <a:latin typeface="Arial"/>
              </a:rPr>
              <a:t>13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/100m</a:t>
            </a:r>
            <a:r>
              <a:rPr b="1" lang="fr-FR" sz="20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/y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05480" y="3873600"/>
            <a:ext cx="39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Comic Sans MS"/>
              </a:rPr>
              <a:t>2.2GeV SPL optimu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982960" y="3772080"/>
            <a:ext cx="124128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48560" y="2233440"/>
            <a:ext cx="485640" cy="34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3000" y="1698480"/>
            <a:ext cx="26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~95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fr-FR" sz="2400" spc="-1" strike="noStrike" baseline="30000">
                <a:solidFill>
                  <a:srgbClr val="003399"/>
                </a:solidFill>
                <a:latin typeface="Comic Sans MS"/>
              </a:rPr>
              <a:t>CC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/kT/yr*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9560" y="619128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Lipari x-sect. (see later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+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302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2411280" y="2494080"/>
              <a:ext cx="1222560" cy="736200"/>
            </a:xfrm>
            <a:custGeom>
              <a:avLst/>
              <a:gdLst>
                <a:gd name="textAreaLeft" fmla="*/ 190800 w 1222560"/>
                <a:gd name="textAreaRight" fmla="*/ 1069920 w 1222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825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2003400" y="21826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37080" y="52164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94120" y="2219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281840" y="50245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63760" y="141912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90000" y="145404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5320" y="404964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32760" y="393876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he X-sect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>
            <a:off x="666720" y="4348080"/>
            <a:ext cx="7566120" cy="16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B is an ideal tool to measure these cross-sections and a 2% systematic error on both signal and background are used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46640" y="2719440"/>
            <a:ext cx="2710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---: Lipari et al.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on H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04960" y="1015920"/>
            <a:ext cx="5236920" cy="3385800"/>
            <a:chOff x="804960" y="1015920"/>
            <a:chExt cx="5236920" cy="3385800"/>
          </a:xfrm>
        </p:grpSpPr>
        <p:grpSp>
          <p:nvGrpSpPr>
            <p:cNvPr id="320" name=""/>
            <p:cNvGrpSpPr/>
            <p:nvPr/>
          </p:nvGrpSpPr>
          <p:grpSpPr>
            <a:xfrm>
              <a:off x="804960" y="1015920"/>
              <a:ext cx="5236920" cy="3385800"/>
              <a:chOff x="804960" y="1015920"/>
              <a:chExt cx="5236920" cy="3385800"/>
            </a:xfrm>
          </p:grpSpPr>
          <p:sp>
            <p:nvSpPr>
              <p:cNvPr id="321" name=""/>
              <p:cNvSpPr/>
              <p:nvPr/>
            </p:nvSpPr>
            <p:spPr>
              <a:xfrm>
                <a:off x="811080" y="1025280"/>
                <a:ext cx="5230440" cy="337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804960" y="1015920"/>
                <a:ext cx="5236920" cy="3369600"/>
                <a:chOff x="804960" y="1015920"/>
                <a:chExt cx="5236920" cy="3369600"/>
              </a:xfrm>
            </p:grpSpPr>
            <p:pic>
              <p:nvPicPr>
                <p:cNvPr id="32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04960" y="1015920"/>
                  <a:ext cx="5236920" cy="336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4" name=""/>
                <p:cNvSpPr/>
                <p:nvPr/>
              </p:nvSpPr>
              <p:spPr>
                <a:xfrm>
                  <a:off x="2055240" y="2666160"/>
                  <a:ext cx="3550320" cy="1290240"/>
                </a:xfrm>
                <a:custGeom>
                  <a:avLst/>
                  <a:gdLst/>
                  <a:ahLst/>
                  <a:rect l="l" t="t" r="r" b="b"/>
                  <a:pathLst>
                    <a:path w="3735" h="1733">
                      <a:moveTo>
                        <a:pt x="0" y="1718"/>
                      </a:moveTo>
                      <a:cubicBezTo>
                        <a:pt x="84" y="1725"/>
                        <a:pt x="168" y="1733"/>
                        <a:pt x="225" y="1700"/>
                      </a:cubicBezTo>
                      <a:cubicBezTo>
                        <a:pt x="282" y="1667"/>
                        <a:pt x="304" y="1625"/>
                        <a:pt x="342" y="1520"/>
                      </a:cubicBezTo>
                      <a:cubicBezTo>
                        <a:pt x="380" y="1415"/>
                        <a:pt x="416" y="1190"/>
                        <a:pt x="450" y="1070"/>
                      </a:cubicBezTo>
                      <a:cubicBezTo>
                        <a:pt x="484" y="950"/>
                        <a:pt x="515" y="888"/>
                        <a:pt x="549" y="800"/>
                      </a:cubicBezTo>
                      <a:cubicBezTo>
                        <a:pt x="583" y="712"/>
                        <a:pt x="612" y="635"/>
                        <a:pt x="657" y="539"/>
                      </a:cubicBezTo>
                      <a:cubicBezTo>
                        <a:pt x="702" y="443"/>
                        <a:pt x="761" y="308"/>
                        <a:pt x="819" y="224"/>
                      </a:cubicBezTo>
                      <a:cubicBezTo>
                        <a:pt x="877" y="140"/>
                        <a:pt x="939" y="70"/>
                        <a:pt x="1008" y="35"/>
                      </a:cubicBezTo>
                      <a:cubicBezTo>
                        <a:pt x="1077" y="0"/>
                        <a:pt x="1151" y="17"/>
                        <a:pt x="1233" y="17"/>
                      </a:cubicBezTo>
                      <a:cubicBezTo>
                        <a:pt x="1315" y="17"/>
                        <a:pt x="1377" y="19"/>
                        <a:pt x="1503" y="35"/>
                      </a:cubicBezTo>
                      <a:cubicBezTo>
                        <a:pt x="1629" y="51"/>
                        <a:pt x="1781" y="85"/>
                        <a:pt x="1989" y="116"/>
                      </a:cubicBezTo>
                      <a:cubicBezTo>
                        <a:pt x="2197" y="147"/>
                        <a:pt x="2556" y="200"/>
                        <a:pt x="2754" y="224"/>
                      </a:cubicBezTo>
                      <a:cubicBezTo>
                        <a:pt x="2952" y="248"/>
                        <a:pt x="3054" y="242"/>
                        <a:pt x="3177" y="260"/>
                      </a:cubicBezTo>
                      <a:cubicBezTo>
                        <a:pt x="3300" y="278"/>
                        <a:pt x="3399" y="320"/>
                        <a:pt x="3492" y="332"/>
                      </a:cubicBezTo>
                      <a:cubicBezTo>
                        <a:pt x="3585" y="344"/>
                        <a:pt x="3695" y="332"/>
                        <a:pt x="3735" y="332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578600" y="2615040"/>
                <a:ext cx="1652040" cy="1346040"/>
              </a:xfrm>
              <a:custGeom>
                <a:avLst/>
                <a:gdLst/>
                <a:ahLst/>
                <a:rect l="l" t="t" r="r" b="b"/>
                <a:pathLst>
                  <a:path w="1518" h="1234">
                    <a:moveTo>
                      <a:pt x="0" y="1234"/>
                    </a:moveTo>
                    <a:cubicBezTo>
                      <a:pt x="7" y="1217"/>
                      <a:pt x="24" y="1147"/>
                      <a:pt x="43" y="1122"/>
                    </a:cubicBezTo>
                    <a:cubicBezTo>
                      <a:pt x="62" y="1097"/>
                      <a:pt x="93" y="1094"/>
                      <a:pt x="117" y="1085"/>
                    </a:cubicBezTo>
                    <a:cubicBezTo>
                      <a:pt x="141" y="1076"/>
                      <a:pt x="153" y="1079"/>
                      <a:pt x="187" y="1066"/>
                    </a:cubicBezTo>
                    <a:cubicBezTo>
                      <a:pt x="222" y="1054"/>
                      <a:pt x="281" y="1028"/>
                      <a:pt x="323" y="1010"/>
                    </a:cubicBezTo>
                    <a:cubicBezTo>
                      <a:pt x="364" y="992"/>
                      <a:pt x="403" y="978"/>
                      <a:pt x="436" y="957"/>
                    </a:cubicBezTo>
                    <a:cubicBezTo>
                      <a:pt x="470" y="936"/>
                      <a:pt x="493" y="916"/>
                      <a:pt x="523" y="884"/>
                    </a:cubicBezTo>
                    <a:cubicBezTo>
                      <a:pt x="553" y="852"/>
                      <a:pt x="584" y="827"/>
                      <a:pt x="615" y="768"/>
                    </a:cubicBezTo>
                    <a:cubicBezTo>
                      <a:pt x="646" y="709"/>
                      <a:pt x="686" y="595"/>
                      <a:pt x="712" y="528"/>
                    </a:cubicBezTo>
                    <a:cubicBezTo>
                      <a:pt x="738" y="462"/>
                      <a:pt x="755" y="416"/>
                      <a:pt x="772" y="369"/>
                    </a:cubicBezTo>
                    <a:cubicBezTo>
                      <a:pt x="788" y="322"/>
                      <a:pt x="795" y="281"/>
                      <a:pt x="809" y="246"/>
                    </a:cubicBezTo>
                    <a:cubicBezTo>
                      <a:pt x="824" y="211"/>
                      <a:pt x="843" y="193"/>
                      <a:pt x="858" y="160"/>
                    </a:cubicBezTo>
                    <a:cubicBezTo>
                      <a:pt x="874" y="127"/>
                      <a:pt x="890" y="71"/>
                      <a:pt x="901" y="47"/>
                    </a:cubicBezTo>
                    <a:cubicBezTo>
                      <a:pt x="913" y="23"/>
                      <a:pt x="918" y="21"/>
                      <a:pt x="928" y="14"/>
                    </a:cubicBezTo>
                    <a:cubicBezTo>
                      <a:pt x="939" y="6"/>
                      <a:pt x="951" y="1"/>
                      <a:pt x="966" y="0"/>
                    </a:cubicBezTo>
                    <a:cubicBezTo>
                      <a:pt x="981" y="0"/>
                      <a:pt x="1008" y="6"/>
                      <a:pt x="1020" y="10"/>
                    </a:cubicBezTo>
                    <a:cubicBezTo>
                      <a:pt x="1032" y="15"/>
                      <a:pt x="1028" y="13"/>
                      <a:pt x="1037" y="27"/>
                    </a:cubicBezTo>
                    <a:cubicBezTo>
                      <a:pt x="1046" y="41"/>
                      <a:pt x="1063" y="64"/>
                      <a:pt x="1073" y="92"/>
                    </a:cubicBezTo>
                    <a:cubicBezTo>
                      <a:pt x="1082" y="121"/>
                      <a:pt x="1086" y="149"/>
                      <a:pt x="1093" y="197"/>
                    </a:cubicBezTo>
                    <a:cubicBezTo>
                      <a:pt x="1100" y="245"/>
                      <a:pt x="1110" y="319"/>
                      <a:pt x="1118" y="382"/>
                    </a:cubicBezTo>
                    <a:cubicBezTo>
                      <a:pt x="1126" y="446"/>
                      <a:pt x="1132" y="513"/>
                      <a:pt x="1139" y="578"/>
                    </a:cubicBezTo>
                    <a:cubicBezTo>
                      <a:pt x="1147" y="644"/>
                      <a:pt x="1154" y="717"/>
                      <a:pt x="1160" y="775"/>
                    </a:cubicBezTo>
                    <a:cubicBezTo>
                      <a:pt x="1166" y="833"/>
                      <a:pt x="1172" y="884"/>
                      <a:pt x="1177" y="927"/>
                    </a:cubicBezTo>
                    <a:cubicBezTo>
                      <a:pt x="1183" y="970"/>
                      <a:pt x="1186" y="995"/>
                      <a:pt x="1191" y="1031"/>
                    </a:cubicBezTo>
                    <a:cubicBezTo>
                      <a:pt x="1196" y="1068"/>
                      <a:pt x="1200" y="1123"/>
                      <a:pt x="1207" y="1149"/>
                    </a:cubicBezTo>
                    <a:cubicBezTo>
                      <a:pt x="1213" y="1175"/>
                      <a:pt x="1225" y="1178"/>
                      <a:pt x="1233" y="1187"/>
                    </a:cubicBezTo>
                    <a:cubicBezTo>
                      <a:pt x="1240" y="1195"/>
                      <a:pt x="1244" y="1195"/>
                      <a:pt x="1254" y="1200"/>
                    </a:cubicBezTo>
                    <a:cubicBezTo>
                      <a:pt x="1263" y="1205"/>
                      <a:pt x="1276" y="1215"/>
                      <a:pt x="1290" y="1219"/>
                    </a:cubicBezTo>
                    <a:cubicBezTo>
                      <a:pt x="1303" y="1222"/>
                      <a:pt x="1314" y="1219"/>
                      <a:pt x="1334" y="1219"/>
                    </a:cubicBezTo>
                    <a:cubicBezTo>
                      <a:pt x="1354" y="1219"/>
                      <a:pt x="1385" y="1218"/>
                      <a:pt x="1410" y="1219"/>
                    </a:cubicBezTo>
                    <a:cubicBezTo>
                      <a:pt x="1435" y="1220"/>
                      <a:pt x="1468" y="1225"/>
                      <a:pt x="1486" y="1226"/>
                    </a:cubicBezTo>
                    <a:cubicBezTo>
                      <a:pt x="1504" y="1227"/>
                      <a:pt x="1513" y="1226"/>
                      <a:pt x="1518" y="1226"/>
                    </a:cubicBezTo>
                  </a:path>
                </a:pathLst>
              </a:custGeom>
              <a:solidFill>
                <a:srgbClr val="969696">
                  <a:alpha val="26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26" name=""/>
            <p:cNvSpPr/>
            <p:nvPr/>
          </p:nvSpPr>
          <p:spPr>
            <a:xfrm>
              <a:off x="909360" y="2476440"/>
              <a:ext cx="2174040" cy="44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60640" y="2894040"/>
              <a:ext cx="20484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7120" y="19224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nalysis: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GLoBES + M. Mezzetto’s parameterization f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146240" y="1260360"/>
          <a:ext cx="7029360" cy="4135680"/>
        </p:xfrm>
        <a:graphic>
          <a:graphicData uri="http://schemas.openxmlformats.org/drawingml/2006/table">
            <a:tbl>
              <a:tblPr/>
              <a:tblGrid>
                <a:gridCol w="1406160"/>
                <a:gridCol w="1395360"/>
                <a:gridCol w="1338480"/>
                <a:gridCol w="1569960"/>
                <a:gridCol w="1319400"/>
              </a:tblGrid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20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67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06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4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1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95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414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0" name=""/>
          <p:cNvSpPr/>
          <p:nvPr/>
        </p:nvSpPr>
        <p:spPr>
          <a:xfrm>
            <a:off x="3791160" y="7444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5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,2 Mt.yrs (+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1240" y="5851440"/>
            <a:ext cx="80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Reduction factor and efficiencies taken from SK simulation (D. Casper) and a tight cut for e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misId. (cf. hep-ph/0105297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146240" y="1260360"/>
          <a:ext cx="7273800" cy="4200480"/>
        </p:xfrm>
        <a:graphic>
          <a:graphicData uri="http://schemas.openxmlformats.org/drawingml/2006/table">
            <a:tbl>
              <a:tblPr/>
              <a:tblGrid>
                <a:gridCol w="1638360"/>
                <a:gridCol w="1442880"/>
                <a:gridCol w="1386000"/>
                <a:gridCol w="1441440"/>
                <a:gridCol w="136512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22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7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1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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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9590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3819600" y="744480"/>
            <a:ext cx="47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8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,5 Mt.yrs (-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>
            <a:off x="2130120" y="1033560"/>
            <a:ext cx="5824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, opti. Flux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71360" y="4272120"/>
            <a:ext cx="42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2000" y="6303960"/>
            <a:ext cx="34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2dof)=4.6 or 11.83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80720" y="62737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5 bins [0.08,1.08] GeV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84800" y="4973760"/>
            <a:ext cx="48484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90%CL) = 61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-3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0.7°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415480" y="1778040"/>
            <a:ext cx="27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5yrs (+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-457200" y="1525680"/>
            <a:ext cx="5313240" cy="4314600"/>
            <a:chOff x="-457200" y="1525680"/>
            <a:chExt cx="5313240" cy="4314600"/>
          </a:xfrm>
        </p:grpSpPr>
        <p:grpSp>
          <p:nvGrpSpPr>
            <p:cNvPr id="344" name=""/>
            <p:cNvGrpSpPr/>
            <p:nvPr/>
          </p:nvGrpSpPr>
          <p:grpSpPr>
            <a:xfrm>
              <a:off x="-457200" y="1525680"/>
              <a:ext cx="5313240" cy="4314600"/>
              <a:chOff x="-457200" y="1525680"/>
              <a:chExt cx="5313240" cy="4314600"/>
            </a:xfrm>
          </p:grpSpPr>
          <p:grpSp>
            <p:nvGrpSpPr>
              <p:cNvPr id="345" name=""/>
              <p:cNvGrpSpPr/>
              <p:nvPr/>
            </p:nvGrpSpPr>
            <p:grpSpPr>
              <a:xfrm>
                <a:off x="-457200" y="1525680"/>
                <a:ext cx="5103720" cy="4314600"/>
                <a:chOff x="-457200" y="1525680"/>
                <a:chExt cx="5103720" cy="431460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103320" y="1525680"/>
                  <a:ext cx="4543200" cy="4314600"/>
                  <a:chOff x="103320" y="1525680"/>
                  <a:chExt cx="4543200" cy="4314600"/>
                </a:xfrm>
              </p:grpSpPr>
              <p:pic>
                <p:nvPicPr>
                  <p:cNvPr id="347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3320" y="1525680"/>
                    <a:ext cx="454320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8" name=""/>
                  <p:cNvSpPr/>
                  <p:nvPr/>
                </p:nvSpPr>
                <p:spPr>
                  <a:xfrm>
                    <a:off x="416520" y="2000160"/>
                    <a:ext cx="2121840" cy="51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609480" indent="-609480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</a:t>
                    </a:r>
                    <a:r>
                      <a:rPr b="1" lang="en-GB" sz="2400" spc="-1" strike="noStrike" baseline="-25000">
                        <a:solidFill>
                          <a:srgbClr val="ff0000"/>
                        </a:solidFill>
                        <a:latin typeface="Comic Sans MS"/>
                      </a:rPr>
                      <a:t>CP</a:t>
                    </a:r>
                    <a:r>
                      <a:rPr b="0" lang="en-GB" sz="2400" spc="-1" strike="noStrike">
                        <a:solidFill>
                          <a:srgbClr val="ff0000"/>
                        </a:solidFill>
                        <a:latin typeface="Comic Sans MS"/>
                      </a:rPr>
                      <a:t>=0</a:t>
                    </a: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1028880" y="4686120"/>
                    <a:ext cx="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-457200" y="5460840"/>
                  <a:ext cx="2637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3399"/>
                      </a:solidFill>
                      <a:latin typeface="Comic Sans MS"/>
                    </a:rPr>
                    <a:t>preliminary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1" name=""/>
              <p:cNvSpPr/>
              <p:nvPr/>
            </p:nvSpPr>
            <p:spPr>
              <a:xfrm>
                <a:off x="2738520" y="1884240"/>
                <a:ext cx="2117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1938240" y="3335400"/>
              <a:ext cx="273924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Comic Sans MS"/>
                </a:rPr>
                <a:t>New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Comic Sans MS"/>
                </a:rPr>
                <a:t>Old 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592520" y="2624040"/>
            <a:ext cx="4432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3,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and use SPL disappearance channel and spectrum analysis*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09680" y="552456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zeable impro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725400" y="1138320"/>
            <a:ext cx="8074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and 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24480" y="600552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207400" y="5910120"/>
            <a:ext cx="4106160" cy="581400"/>
          </a:xfrm>
          <a:prstGeom prst="rect">
            <a:avLst/>
          </a:prstGeom>
          <a:solidFill>
            <a:srgbClr val="f4e1c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-156600" y="1816200"/>
            <a:ext cx="5229720" cy="4009320"/>
            <a:chOff x="-156600" y="1816200"/>
            <a:chExt cx="5229720" cy="4009320"/>
          </a:xfrm>
        </p:grpSpPr>
        <p:grpSp>
          <p:nvGrpSpPr>
            <p:cNvPr id="360" name=""/>
            <p:cNvGrpSpPr/>
            <p:nvPr/>
          </p:nvGrpSpPr>
          <p:grpSpPr>
            <a:xfrm>
              <a:off x="-156600" y="1816200"/>
              <a:ext cx="5229720" cy="4009320"/>
              <a:chOff x="-156600" y="1816200"/>
              <a:chExt cx="5229720" cy="4009320"/>
            </a:xfrm>
          </p:grpSpPr>
          <p:sp>
            <p:nvSpPr>
              <p:cNvPr id="361" name=""/>
              <p:cNvSpPr/>
              <p:nvPr/>
            </p:nvSpPr>
            <p:spPr>
              <a:xfrm>
                <a:off x="376200" y="1816200"/>
                <a:ext cx="4327560" cy="395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000" y="2314440"/>
                <a:ext cx="2789640" cy="117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79680" y="4808520"/>
                <a:ext cx="2637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99"/>
                    </a:solidFill>
                    <a:latin typeface="Comic Sans MS"/>
                  </a:rPr>
                  <a:t>preliminary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36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120" y="1895400"/>
                <a:ext cx="4170240" cy="39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2521440" y="2577960"/>
                <a:ext cx="2013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Comic Sans MS"/>
                  </a:rPr>
                  <a:t>T2K-I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1072080" y="2087640"/>
                <a:ext cx="2283480" cy="337320"/>
                <a:chOff x="1072080" y="2087640"/>
                <a:chExt cx="2283480" cy="3373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1166760" y="226044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072080" y="2087640"/>
                  <a:ext cx="2283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66cc"/>
                      </a:solidFill>
                      <a:latin typeface="Comic Sans MS"/>
                    </a:rPr>
                    <a:t>Rate only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1099440" y="2367000"/>
                <a:ext cx="3973680" cy="337320"/>
                <a:chOff x="1099440" y="2367000"/>
                <a:chExt cx="3973680" cy="3373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1193760" y="253980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099440" y="2367000"/>
                  <a:ext cx="3973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Comic Sans MS"/>
                    </a:rPr>
                    <a:t>Spectrum analysis (prelim.)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-156600" y="5365800"/>
                <a:ext cx="366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 (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</a:t>
                </a:r>
                <a:r>
                  <a:rPr b="0" lang="en-GB" sz="16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(2dof)=4.6)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108160" y="4627440"/>
                <a:ext cx="27896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5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1143360" y="2744640"/>
                <a:ext cx="2128320" cy="337320"/>
                <a:chOff x="1143360" y="2744640"/>
                <a:chExt cx="2128320" cy="33732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206360" y="2895480"/>
                  <a:ext cx="40320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143360" y="2744640"/>
                  <a:ext cx="21283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3366ff"/>
                      </a:solidFill>
                      <a:latin typeface="Comic Sans MS"/>
                    </a:rPr>
                    <a:t>Old SPL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7" name=""/>
            <p:cNvSpPr/>
            <p:nvPr/>
          </p:nvSpPr>
          <p:spPr>
            <a:xfrm>
              <a:off x="1123920" y="2962080"/>
              <a:ext cx="3301920" cy="749520"/>
            </a:xfrm>
            <a:custGeom>
              <a:avLst/>
              <a:gdLst/>
              <a:ahLst/>
              <a:rect l="l" t="t" r="r" b="b"/>
              <a:pathLst>
                <a:path w="2568" h="326">
                  <a:moveTo>
                    <a:pt x="0" y="144"/>
                  </a:moveTo>
                  <a:cubicBezTo>
                    <a:pt x="11" y="151"/>
                    <a:pt x="43" y="171"/>
                    <a:pt x="68" y="184"/>
                  </a:cubicBezTo>
                  <a:cubicBezTo>
                    <a:pt x="93" y="197"/>
                    <a:pt x="123" y="213"/>
                    <a:pt x="148" y="224"/>
                  </a:cubicBezTo>
                  <a:cubicBezTo>
                    <a:pt x="173" y="235"/>
                    <a:pt x="197" y="245"/>
                    <a:pt x="216" y="252"/>
                  </a:cubicBezTo>
                  <a:cubicBezTo>
                    <a:pt x="235" y="259"/>
                    <a:pt x="245" y="259"/>
                    <a:pt x="264" y="264"/>
                  </a:cubicBezTo>
                  <a:cubicBezTo>
                    <a:pt x="283" y="269"/>
                    <a:pt x="309" y="279"/>
                    <a:pt x="332" y="284"/>
                  </a:cubicBezTo>
                  <a:cubicBezTo>
                    <a:pt x="355" y="289"/>
                    <a:pt x="378" y="291"/>
                    <a:pt x="400" y="296"/>
                  </a:cubicBezTo>
                  <a:cubicBezTo>
                    <a:pt x="422" y="301"/>
                    <a:pt x="441" y="307"/>
                    <a:pt x="464" y="312"/>
                  </a:cubicBezTo>
                  <a:cubicBezTo>
                    <a:pt x="487" y="317"/>
                    <a:pt x="519" y="322"/>
                    <a:pt x="540" y="324"/>
                  </a:cubicBezTo>
                  <a:cubicBezTo>
                    <a:pt x="561" y="326"/>
                    <a:pt x="573" y="324"/>
                    <a:pt x="592" y="324"/>
                  </a:cubicBezTo>
                  <a:cubicBezTo>
                    <a:pt x="611" y="324"/>
                    <a:pt x="633" y="325"/>
                    <a:pt x="652" y="324"/>
                  </a:cubicBezTo>
                  <a:cubicBezTo>
                    <a:pt x="671" y="323"/>
                    <a:pt x="687" y="323"/>
                    <a:pt x="708" y="320"/>
                  </a:cubicBezTo>
                  <a:cubicBezTo>
                    <a:pt x="729" y="317"/>
                    <a:pt x="755" y="312"/>
                    <a:pt x="776" y="308"/>
                  </a:cubicBezTo>
                  <a:cubicBezTo>
                    <a:pt x="797" y="304"/>
                    <a:pt x="809" y="301"/>
                    <a:pt x="832" y="296"/>
                  </a:cubicBezTo>
                  <a:cubicBezTo>
                    <a:pt x="855" y="291"/>
                    <a:pt x="885" y="288"/>
                    <a:pt x="912" y="280"/>
                  </a:cubicBezTo>
                  <a:cubicBezTo>
                    <a:pt x="939" y="272"/>
                    <a:pt x="968" y="257"/>
                    <a:pt x="992" y="248"/>
                  </a:cubicBezTo>
                  <a:cubicBezTo>
                    <a:pt x="1016" y="239"/>
                    <a:pt x="1033" y="236"/>
                    <a:pt x="1056" y="228"/>
                  </a:cubicBezTo>
                  <a:cubicBezTo>
                    <a:pt x="1079" y="220"/>
                    <a:pt x="1101" y="211"/>
                    <a:pt x="1132" y="200"/>
                  </a:cubicBezTo>
                  <a:cubicBezTo>
                    <a:pt x="1163" y="189"/>
                    <a:pt x="1211" y="175"/>
                    <a:pt x="1240" y="164"/>
                  </a:cubicBezTo>
                  <a:cubicBezTo>
                    <a:pt x="1269" y="153"/>
                    <a:pt x="1280" y="145"/>
                    <a:pt x="1308" y="136"/>
                  </a:cubicBezTo>
                  <a:cubicBezTo>
                    <a:pt x="1336" y="127"/>
                    <a:pt x="1381" y="115"/>
                    <a:pt x="1408" y="108"/>
                  </a:cubicBezTo>
                  <a:cubicBezTo>
                    <a:pt x="1435" y="101"/>
                    <a:pt x="1449" y="99"/>
                    <a:pt x="1472" y="92"/>
                  </a:cubicBezTo>
                  <a:cubicBezTo>
                    <a:pt x="1495" y="85"/>
                    <a:pt x="1525" y="74"/>
                    <a:pt x="1544" y="68"/>
                  </a:cubicBezTo>
                  <a:cubicBezTo>
                    <a:pt x="1563" y="62"/>
                    <a:pt x="1573" y="59"/>
                    <a:pt x="1588" y="56"/>
                  </a:cubicBezTo>
                  <a:cubicBezTo>
                    <a:pt x="1603" y="53"/>
                    <a:pt x="1613" y="53"/>
                    <a:pt x="1632" y="48"/>
                  </a:cubicBezTo>
                  <a:cubicBezTo>
                    <a:pt x="1651" y="43"/>
                    <a:pt x="1684" y="34"/>
                    <a:pt x="1704" y="28"/>
                  </a:cubicBezTo>
                  <a:cubicBezTo>
                    <a:pt x="1724" y="22"/>
                    <a:pt x="1737" y="16"/>
                    <a:pt x="1752" y="12"/>
                  </a:cubicBezTo>
                  <a:cubicBezTo>
                    <a:pt x="1767" y="8"/>
                    <a:pt x="1779" y="5"/>
                    <a:pt x="1796" y="4"/>
                  </a:cubicBezTo>
                  <a:cubicBezTo>
                    <a:pt x="1813" y="3"/>
                    <a:pt x="1837" y="5"/>
                    <a:pt x="1856" y="4"/>
                  </a:cubicBezTo>
                  <a:cubicBezTo>
                    <a:pt x="1875" y="3"/>
                    <a:pt x="1889" y="0"/>
                    <a:pt x="1912" y="0"/>
                  </a:cubicBezTo>
                  <a:cubicBezTo>
                    <a:pt x="1935" y="0"/>
                    <a:pt x="1967" y="3"/>
                    <a:pt x="1996" y="4"/>
                  </a:cubicBezTo>
                  <a:cubicBezTo>
                    <a:pt x="2025" y="5"/>
                    <a:pt x="2056" y="4"/>
                    <a:pt x="2084" y="8"/>
                  </a:cubicBezTo>
                  <a:cubicBezTo>
                    <a:pt x="2112" y="12"/>
                    <a:pt x="2137" y="23"/>
                    <a:pt x="2164" y="28"/>
                  </a:cubicBezTo>
                  <a:cubicBezTo>
                    <a:pt x="2191" y="33"/>
                    <a:pt x="2223" y="35"/>
                    <a:pt x="2248" y="40"/>
                  </a:cubicBezTo>
                  <a:cubicBezTo>
                    <a:pt x="2273" y="45"/>
                    <a:pt x="2286" y="53"/>
                    <a:pt x="2312" y="60"/>
                  </a:cubicBezTo>
                  <a:cubicBezTo>
                    <a:pt x="2338" y="67"/>
                    <a:pt x="2369" y="72"/>
                    <a:pt x="2404" y="84"/>
                  </a:cubicBezTo>
                  <a:cubicBezTo>
                    <a:pt x="2439" y="96"/>
                    <a:pt x="2497" y="120"/>
                    <a:pt x="2524" y="132"/>
                  </a:cubicBezTo>
                  <a:cubicBezTo>
                    <a:pt x="2551" y="144"/>
                    <a:pt x="2560" y="150"/>
                    <a:pt x="2568" y="15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805120" y="3254400"/>
              <a:ext cx="0" cy="10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44320" y="3773520"/>
              <a:ext cx="1908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1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940280" y="1874880"/>
            <a:ext cx="4140360" cy="3882960"/>
            <a:chOff x="4940280" y="1874880"/>
            <a:chExt cx="4140360" cy="3882960"/>
          </a:xfrm>
        </p:grpSpPr>
        <p:pic>
          <p:nvPicPr>
            <p:cNvPr id="381" name="" descr=""/>
            <p:cNvPicPr/>
            <p:nvPr/>
          </p:nvPicPr>
          <p:blipFill>
            <a:blip r:embed="rId2"/>
            <a:srcRect l="6549" t="0" r="0" b="0"/>
            <a:stretch/>
          </p:blipFill>
          <p:spPr>
            <a:xfrm>
              <a:off x="4940280" y="1874880"/>
              <a:ext cx="378144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954680" y="2187720"/>
              <a:ext cx="278964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8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443640" y="470700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135360" y="608184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Use glbChiDelta and </a:t>
            </a:r>
            <a:r>
              <a:rPr b="0" lang="fr-FR" sz="14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fr-FR" sz="14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 (1dof)=9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72040" y="2230560"/>
            <a:ext cx="3981600" cy="21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0099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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Tests 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0 and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% syst on signal &amp; bk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-189000" y="1039680"/>
            <a:ext cx="5502240" cy="4962600"/>
            <a:chOff x="-189000" y="1039680"/>
            <a:chExt cx="5502240" cy="4962600"/>
          </a:xfrm>
        </p:grpSpPr>
        <p:sp>
          <p:nvSpPr>
            <p:cNvPr id="388" name=""/>
            <p:cNvSpPr/>
            <p:nvPr/>
          </p:nvSpPr>
          <p:spPr>
            <a:xfrm>
              <a:off x="299880" y="1085760"/>
              <a:ext cx="4872240" cy="49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0560" y="1039680"/>
              <a:ext cx="486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Comic Sans MS"/>
                </a:rPr>
                <a:t>CP discovery @ 3</a:t>
              </a:r>
              <a:r>
                <a:rPr b="0" lang="en-US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1"/>
            <a:srcRect l="0" t="0" r="0" b="2088"/>
            <a:stretch/>
          </p:blipFill>
          <p:spPr>
            <a:xfrm>
              <a:off x="411120" y="1566720"/>
              <a:ext cx="45626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568080" y="4125960"/>
              <a:ext cx="243756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-189000" y="550404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4720" y="3174840"/>
              <a:ext cx="368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67320" y="2951280"/>
              <a:ext cx="246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ff"/>
                  </a:solidFill>
                  <a:latin typeface="Comic Sans MS"/>
                </a:rPr>
                <a:t>Old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19520" y="3632040"/>
              <a:ext cx="36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30960" y="3408480"/>
              <a:ext cx="258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ew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 possible schem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3572640" y="5519880"/>
            <a:ext cx="5608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+ BetaBeam: see M. Mezzetto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+ ATM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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see Th. Schwetz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19160" y="5560920"/>
            <a:ext cx="49521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Machin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. Garoby &amp; M. Lindroo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12440" y="930240"/>
            <a:ext cx="8274240" cy="4291200"/>
            <a:chOff x="712440" y="930240"/>
            <a:chExt cx="8274240" cy="4291200"/>
          </a:xfrm>
        </p:grpSpPr>
        <p:grpSp>
          <p:nvGrpSpPr>
            <p:cNvPr id="90" name=""/>
            <p:cNvGrpSpPr/>
            <p:nvPr/>
          </p:nvGrpSpPr>
          <p:grpSpPr>
            <a:xfrm>
              <a:off x="712440" y="930240"/>
              <a:ext cx="8274240" cy="4291200"/>
              <a:chOff x="712440" y="930240"/>
              <a:chExt cx="8274240" cy="4291200"/>
            </a:xfrm>
          </p:grpSpPr>
          <p:sp>
            <p:nvSpPr>
              <p:cNvPr id="91" name=""/>
              <p:cNvSpPr/>
              <p:nvPr/>
            </p:nvSpPr>
            <p:spPr>
              <a:xfrm>
                <a:off x="774720" y="971640"/>
                <a:ext cx="8146800" cy="421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686040" y="930240"/>
                <a:ext cx="5300640" cy="42912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3" name=""/>
              <p:cNvGrpSpPr/>
              <p:nvPr/>
            </p:nvGrpSpPr>
            <p:grpSpPr>
              <a:xfrm>
                <a:off x="820800" y="2247840"/>
                <a:ext cx="4771800" cy="2692080"/>
                <a:chOff x="820800" y="2247840"/>
                <a:chExt cx="4771800" cy="2692080"/>
              </a:xfrm>
            </p:grpSpPr>
            <p:pic>
              <p:nvPicPr>
                <p:cNvPr id="9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20800" y="2247840"/>
                  <a:ext cx="4771800" cy="269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>
                  <a:off x="4449600" y="2466720"/>
                  <a:ext cx="867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Comic Sans MS"/>
                      <a:ea typeface="Osaka"/>
                    </a:rPr>
                    <a:t>TRE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" name=""/>
              <p:cNvSpPr/>
              <p:nvPr/>
            </p:nvSpPr>
            <p:spPr>
              <a:xfrm>
                <a:off x="4862880" y="1326960"/>
                <a:ext cx="323460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CERN SPL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2440" y="1625760"/>
                <a:ext cx="3498120" cy="581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LSM-Fréjus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3717720" y="1989000"/>
              <a:ext cx="33886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ar detector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5544720" y="2577960"/>
              <a:ext cx="2624040" cy="1258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067000">
              <a:off x="5617440" y="3332880"/>
              <a:ext cx="26982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015000" y="5041800"/>
            <a:ext cx="3228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elated talk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5737320"/>
            <a:ext cx="5821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=-0.85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03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4,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5440" y="1087560"/>
            <a:ext cx="37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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, 8 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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245160" y="1616040"/>
            <a:ext cx="9076320" cy="3936600"/>
            <a:chOff x="245160" y="1616040"/>
            <a:chExt cx="9076320" cy="3936600"/>
          </a:xfrm>
        </p:grpSpPr>
        <p:pic>
          <p:nvPicPr>
            <p:cNvPr id="401" name="" descr=""/>
            <p:cNvPicPr/>
            <p:nvPr/>
          </p:nvPicPr>
          <p:blipFill>
            <a:blip r:embed="rId1"/>
            <a:stretch/>
          </p:blipFill>
          <p:spPr>
            <a:xfrm>
              <a:off x="1386000" y="2025720"/>
              <a:ext cx="2647800" cy="28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2" name=""/>
            <p:cNvGrpSpPr/>
            <p:nvPr/>
          </p:nvGrpSpPr>
          <p:grpSpPr>
            <a:xfrm>
              <a:off x="1213560" y="4840200"/>
              <a:ext cx="3036960" cy="691560"/>
              <a:chOff x="1213560" y="4840200"/>
              <a:chExt cx="3036960" cy="691560"/>
            </a:xfrm>
          </p:grpSpPr>
          <p:sp>
            <p:nvSpPr>
              <p:cNvPr id="403" name=""/>
              <p:cNvSpPr/>
              <p:nvPr/>
            </p:nvSpPr>
            <p:spPr>
              <a:xfrm>
                <a:off x="121356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2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010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4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4454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6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588320" y="5091120"/>
                <a:ext cx="2301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sin</a:t>
                </a:r>
                <a:r>
                  <a:rPr b="1" lang="fr-FR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1" lang="fr-FR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13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45160" y="1930320"/>
              <a:ext cx="1803240" cy="2975760"/>
              <a:chOff x="245160" y="1930320"/>
              <a:chExt cx="1803240" cy="2975760"/>
            </a:xfrm>
          </p:grpSpPr>
          <p:sp>
            <p:nvSpPr>
              <p:cNvPr id="408" name=""/>
              <p:cNvSpPr/>
              <p:nvPr/>
            </p:nvSpPr>
            <p:spPr>
              <a:xfrm>
                <a:off x="438120" y="4568760"/>
                <a:ext cx="15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45160" y="3755880"/>
                <a:ext cx="175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2800" y="284328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39840" y="1930320"/>
                <a:ext cx="16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6200000">
                <a:off x="78840" y="3186000"/>
                <a:ext cx="173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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13" name=""/>
            <p:cNvSpPr/>
            <p:nvPr/>
          </p:nvSpPr>
          <p:spPr>
            <a:xfrm>
              <a:off x="1346040" y="2509920"/>
              <a:ext cx="274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</a:t>
              </a:r>
              <a:r>
                <a:rPr b="0" lang="en-GB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Fact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5361840" y="1996920"/>
              <a:ext cx="3959640" cy="3555720"/>
              <a:chOff x="5361840" y="1996920"/>
              <a:chExt cx="3959640" cy="3555720"/>
            </a:xfrm>
          </p:grpSpPr>
          <p:pic>
            <p:nvPicPr>
              <p:cNvPr id="41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1160" y="2033640"/>
                <a:ext cx="2590920" cy="28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6" name=""/>
              <p:cNvGrpSpPr/>
              <p:nvPr/>
            </p:nvGrpSpPr>
            <p:grpSpPr>
              <a:xfrm>
                <a:off x="5361840" y="4861080"/>
                <a:ext cx="3036960" cy="691560"/>
                <a:chOff x="5361840" y="4861080"/>
                <a:chExt cx="3036960" cy="6915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536184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2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59493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4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5937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6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5736600" y="5112000"/>
                  <a:ext cx="2301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sin</a:t>
                  </a:r>
                  <a:r>
                    <a:rPr b="1" lang="fr-FR" sz="2000" spc="-1" strike="noStrike" baseline="30000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fr-FR" sz="2000" spc="-1" strike="noStrike" baseline="-25000">
                      <a:solidFill>
                        <a:srgbClr val="003399"/>
                      </a:solidFill>
                      <a:latin typeface="Comic Sans MS"/>
                    </a:rPr>
                    <a:t>13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7517880" y="1996920"/>
                <a:ext cx="1803600" cy="2975760"/>
                <a:chOff x="7517880" y="1996920"/>
                <a:chExt cx="1803600" cy="29757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7547040" y="4635360"/>
                  <a:ext cx="1581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1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7566840" y="3822840"/>
                  <a:ext cx="1754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7517880" y="2909880"/>
                  <a:ext cx="1515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7537680" y="1996920"/>
                  <a:ext cx="168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rot="16200000">
                  <a:off x="7880040" y="3238200"/>
                  <a:ext cx="173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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7" name=""/>
            <p:cNvSpPr/>
            <p:nvPr/>
          </p:nvSpPr>
          <p:spPr>
            <a:xfrm>
              <a:off x="5349600" y="25099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 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3.5 GeV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37280" y="4141800"/>
              <a:ext cx="17960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tru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289400" y="4071960"/>
              <a:ext cx="233712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51760" y="3216240"/>
              <a:ext cx="2997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hierarc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94000" y="2778120"/>
              <a:ext cx="18925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hierarchy and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76000" y="437976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90%C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62240" y="1847880"/>
              <a:ext cx="3237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Solid: SPL+ATM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Dashed: SPL onl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1920" y="161784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NNN05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23560" y="1616040"/>
              <a:ext cx="31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w Prelim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6043680" y="64184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f.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DR2 block diagram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611280" y="2246400"/>
            <a:ext cx="8229600" cy="3438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5055840" y="3780000"/>
            <a:ext cx="29008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-2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urisol,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249880" y="4789440"/>
            <a:ext cx="24670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-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uperB, NuFa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35760" y="3306600"/>
            <a:ext cx="228600" cy="57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7589880" y="4998960"/>
            <a:ext cx="533520" cy="3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81440" y="1655640"/>
            <a:ext cx="5587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ERN proton complex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06800" y="1736640"/>
            <a:ext cx="138780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542880" y="2214720"/>
            <a:ext cx="7626240" cy="33591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5645160" y="2773440"/>
            <a:ext cx="1198440" cy="549360"/>
          </a:xfrm>
          <a:solidFill>
            <a:srgbClr val="cc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836800" y="4245120"/>
            <a:ext cx="1022400" cy="549000"/>
          </a:xfrm>
          <a:solidFill>
            <a:srgbClr val="ffe98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inac4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54640" y="5603760"/>
            <a:ext cx="966960" cy="549360"/>
          </a:xfrm>
          <a:solidFill>
            <a:srgbClr val="ffc5e2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PL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87480" y="1368360"/>
            <a:ext cx="2082600" cy="746280"/>
          </a:xfr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F tests in SM 18 of prototype structures* for Linac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892600" y="572436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3819600" y="5025960"/>
            <a:ext cx="261720" cy="711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8240" y="328320"/>
            <a:ext cx="68198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lobal planning (R.G courtesy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92200" y="1304640"/>
            <a:ext cx="82296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igher proton energy &amp; SB Horn specifi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new baseline: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.5GeV/2m/40m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sensitivity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ensitivity to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= 0.7°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(5yrs +): gain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+25% wrt old result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down to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.4°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with the 10yrs mixed scenario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ndependently of </a:t>
            </a:r>
            <a:r>
              <a:rPr b="0" lang="en-GB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mprove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T2K-I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by a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actor 10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at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0 (5yrs +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an discover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P viola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an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olve ambiguitie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lone and result is improved thanks to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TM</a:t>
            </a:r>
            <a:r>
              <a:rPr b="1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Th. Schwetz ‘s talk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3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omplementary to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etaBeam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to cross check th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ackground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and improve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sensitivity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M. Mezzetto’s talk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5" name=""/>
          <p:cNvSpPr/>
          <p:nvPr/>
        </p:nvSpPr>
        <p:spPr>
          <a:xfrm>
            <a:off x="3690360" y="565164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ank you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3399"/>
                </a:solidFill>
                <a:latin typeface="Comic Sans MS"/>
              </a:rPr>
              <a:t>END</a:t>
            </a:r>
            <a:endParaRPr b="0" lang="en-US" sz="8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8972640" cy="45720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67200" y="1049400"/>
            <a:ext cx="43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10560" y="5764320"/>
            <a:ext cx="64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significantly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4720" y="3403440"/>
            <a:ext cx="4076640" cy="517680"/>
          </a:xfrm>
          <a:custGeom>
            <a:avLst/>
            <a:gdLst/>
            <a:ahLst/>
            <a:rect l="l" t="t" r="r" b="b"/>
            <a:pathLst>
              <a:path w="2568" h="326">
                <a:moveTo>
                  <a:pt x="0" y="144"/>
                </a:moveTo>
                <a:cubicBezTo>
                  <a:pt x="11" y="151"/>
                  <a:pt x="43" y="171"/>
                  <a:pt x="68" y="184"/>
                </a:cubicBezTo>
                <a:cubicBezTo>
                  <a:pt x="93" y="197"/>
                  <a:pt x="123" y="213"/>
                  <a:pt x="148" y="224"/>
                </a:cubicBezTo>
                <a:cubicBezTo>
                  <a:pt x="173" y="235"/>
                  <a:pt x="197" y="245"/>
                  <a:pt x="216" y="252"/>
                </a:cubicBezTo>
                <a:cubicBezTo>
                  <a:pt x="235" y="259"/>
                  <a:pt x="245" y="259"/>
                  <a:pt x="264" y="264"/>
                </a:cubicBezTo>
                <a:cubicBezTo>
                  <a:pt x="283" y="269"/>
                  <a:pt x="309" y="279"/>
                  <a:pt x="332" y="284"/>
                </a:cubicBezTo>
                <a:cubicBezTo>
                  <a:pt x="355" y="289"/>
                  <a:pt x="378" y="291"/>
                  <a:pt x="400" y="296"/>
                </a:cubicBezTo>
                <a:cubicBezTo>
                  <a:pt x="422" y="301"/>
                  <a:pt x="441" y="307"/>
                  <a:pt x="464" y="312"/>
                </a:cubicBezTo>
                <a:cubicBezTo>
                  <a:pt x="487" y="317"/>
                  <a:pt x="519" y="322"/>
                  <a:pt x="540" y="324"/>
                </a:cubicBezTo>
                <a:cubicBezTo>
                  <a:pt x="561" y="326"/>
                  <a:pt x="573" y="324"/>
                  <a:pt x="592" y="324"/>
                </a:cubicBezTo>
                <a:cubicBezTo>
                  <a:pt x="611" y="324"/>
                  <a:pt x="633" y="325"/>
                  <a:pt x="652" y="324"/>
                </a:cubicBezTo>
                <a:cubicBezTo>
                  <a:pt x="671" y="323"/>
                  <a:pt x="687" y="323"/>
                  <a:pt x="708" y="320"/>
                </a:cubicBezTo>
                <a:cubicBezTo>
                  <a:pt x="729" y="317"/>
                  <a:pt x="755" y="312"/>
                  <a:pt x="776" y="308"/>
                </a:cubicBezTo>
                <a:cubicBezTo>
                  <a:pt x="797" y="304"/>
                  <a:pt x="809" y="301"/>
                  <a:pt x="832" y="296"/>
                </a:cubicBezTo>
                <a:cubicBezTo>
                  <a:pt x="855" y="291"/>
                  <a:pt x="885" y="288"/>
                  <a:pt x="912" y="280"/>
                </a:cubicBezTo>
                <a:cubicBezTo>
                  <a:pt x="939" y="272"/>
                  <a:pt x="968" y="257"/>
                  <a:pt x="992" y="248"/>
                </a:cubicBezTo>
                <a:cubicBezTo>
                  <a:pt x="1016" y="239"/>
                  <a:pt x="1033" y="236"/>
                  <a:pt x="1056" y="228"/>
                </a:cubicBezTo>
                <a:cubicBezTo>
                  <a:pt x="1079" y="220"/>
                  <a:pt x="1101" y="211"/>
                  <a:pt x="1132" y="200"/>
                </a:cubicBezTo>
                <a:cubicBezTo>
                  <a:pt x="1163" y="189"/>
                  <a:pt x="1211" y="175"/>
                  <a:pt x="1240" y="164"/>
                </a:cubicBezTo>
                <a:cubicBezTo>
                  <a:pt x="1269" y="153"/>
                  <a:pt x="1280" y="145"/>
                  <a:pt x="1308" y="136"/>
                </a:cubicBezTo>
                <a:cubicBezTo>
                  <a:pt x="1336" y="127"/>
                  <a:pt x="1381" y="115"/>
                  <a:pt x="1408" y="108"/>
                </a:cubicBezTo>
                <a:cubicBezTo>
                  <a:pt x="1435" y="101"/>
                  <a:pt x="1449" y="99"/>
                  <a:pt x="1472" y="92"/>
                </a:cubicBezTo>
                <a:cubicBezTo>
                  <a:pt x="1495" y="85"/>
                  <a:pt x="1525" y="74"/>
                  <a:pt x="1544" y="68"/>
                </a:cubicBezTo>
                <a:cubicBezTo>
                  <a:pt x="1563" y="62"/>
                  <a:pt x="1573" y="59"/>
                  <a:pt x="1588" y="56"/>
                </a:cubicBezTo>
                <a:cubicBezTo>
                  <a:pt x="1603" y="53"/>
                  <a:pt x="1613" y="53"/>
                  <a:pt x="1632" y="48"/>
                </a:cubicBezTo>
                <a:cubicBezTo>
                  <a:pt x="1651" y="43"/>
                  <a:pt x="1684" y="34"/>
                  <a:pt x="1704" y="28"/>
                </a:cubicBezTo>
                <a:cubicBezTo>
                  <a:pt x="1724" y="22"/>
                  <a:pt x="1737" y="16"/>
                  <a:pt x="1752" y="12"/>
                </a:cubicBezTo>
                <a:cubicBezTo>
                  <a:pt x="1767" y="8"/>
                  <a:pt x="1779" y="5"/>
                  <a:pt x="1796" y="4"/>
                </a:cubicBezTo>
                <a:cubicBezTo>
                  <a:pt x="1813" y="3"/>
                  <a:pt x="1837" y="5"/>
                  <a:pt x="1856" y="4"/>
                </a:cubicBezTo>
                <a:cubicBezTo>
                  <a:pt x="1875" y="3"/>
                  <a:pt x="1889" y="0"/>
                  <a:pt x="1912" y="0"/>
                </a:cubicBezTo>
                <a:cubicBezTo>
                  <a:pt x="1935" y="0"/>
                  <a:pt x="1967" y="3"/>
                  <a:pt x="1996" y="4"/>
                </a:cubicBezTo>
                <a:cubicBezTo>
                  <a:pt x="2025" y="5"/>
                  <a:pt x="2056" y="4"/>
                  <a:pt x="2084" y="8"/>
                </a:cubicBezTo>
                <a:cubicBezTo>
                  <a:pt x="2112" y="12"/>
                  <a:pt x="2137" y="23"/>
                  <a:pt x="2164" y="28"/>
                </a:cubicBezTo>
                <a:cubicBezTo>
                  <a:pt x="2191" y="33"/>
                  <a:pt x="2223" y="35"/>
                  <a:pt x="2248" y="40"/>
                </a:cubicBezTo>
                <a:cubicBezTo>
                  <a:pt x="2273" y="45"/>
                  <a:pt x="2286" y="53"/>
                  <a:pt x="2312" y="60"/>
                </a:cubicBezTo>
                <a:cubicBezTo>
                  <a:pt x="2338" y="67"/>
                  <a:pt x="2369" y="72"/>
                  <a:pt x="2404" y="84"/>
                </a:cubicBezTo>
                <a:cubicBezTo>
                  <a:pt x="2439" y="96"/>
                  <a:pt x="2497" y="120"/>
                  <a:pt x="2524" y="132"/>
                </a:cubicBezTo>
                <a:cubicBezTo>
                  <a:pt x="2551" y="144"/>
                  <a:pt x="2560" y="150"/>
                  <a:pt x="2568" y="15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8240" y="39304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81200" y="3506760"/>
            <a:ext cx="4051080" cy="897120"/>
          </a:xfrm>
          <a:custGeom>
            <a:avLst/>
            <a:gdLst/>
            <a:ahLst/>
            <a:rect l="l" t="t" r="r" b="b"/>
            <a:pathLst>
              <a:path w="2552" h="565">
                <a:moveTo>
                  <a:pt x="0" y="259"/>
                </a:moveTo>
                <a:cubicBezTo>
                  <a:pt x="22" y="278"/>
                  <a:pt x="44" y="297"/>
                  <a:pt x="68" y="315"/>
                </a:cubicBezTo>
                <a:cubicBezTo>
                  <a:pt x="92" y="333"/>
                  <a:pt x="111" y="347"/>
                  <a:pt x="144" y="367"/>
                </a:cubicBezTo>
                <a:cubicBezTo>
                  <a:pt x="177" y="387"/>
                  <a:pt x="231" y="414"/>
                  <a:pt x="268" y="435"/>
                </a:cubicBezTo>
                <a:cubicBezTo>
                  <a:pt x="305" y="456"/>
                  <a:pt x="327" y="475"/>
                  <a:pt x="364" y="491"/>
                </a:cubicBezTo>
                <a:cubicBezTo>
                  <a:pt x="401" y="507"/>
                  <a:pt x="457" y="520"/>
                  <a:pt x="488" y="531"/>
                </a:cubicBezTo>
                <a:cubicBezTo>
                  <a:pt x="519" y="542"/>
                  <a:pt x="526" y="550"/>
                  <a:pt x="552" y="555"/>
                </a:cubicBezTo>
                <a:cubicBezTo>
                  <a:pt x="578" y="560"/>
                  <a:pt x="615" y="562"/>
                  <a:pt x="644" y="563"/>
                </a:cubicBezTo>
                <a:cubicBezTo>
                  <a:pt x="673" y="564"/>
                  <a:pt x="701" y="565"/>
                  <a:pt x="728" y="563"/>
                </a:cubicBezTo>
                <a:cubicBezTo>
                  <a:pt x="755" y="561"/>
                  <a:pt x="780" y="556"/>
                  <a:pt x="808" y="551"/>
                </a:cubicBezTo>
                <a:cubicBezTo>
                  <a:pt x="836" y="546"/>
                  <a:pt x="863" y="540"/>
                  <a:pt x="896" y="531"/>
                </a:cubicBezTo>
                <a:cubicBezTo>
                  <a:pt x="929" y="522"/>
                  <a:pt x="969" y="516"/>
                  <a:pt x="1008" y="495"/>
                </a:cubicBezTo>
                <a:cubicBezTo>
                  <a:pt x="1047" y="474"/>
                  <a:pt x="1090" y="434"/>
                  <a:pt x="1128" y="407"/>
                </a:cubicBezTo>
                <a:cubicBezTo>
                  <a:pt x="1166" y="380"/>
                  <a:pt x="1199" y="354"/>
                  <a:pt x="1236" y="331"/>
                </a:cubicBezTo>
                <a:cubicBezTo>
                  <a:pt x="1273" y="308"/>
                  <a:pt x="1312" y="292"/>
                  <a:pt x="1352" y="267"/>
                </a:cubicBezTo>
                <a:cubicBezTo>
                  <a:pt x="1392" y="242"/>
                  <a:pt x="1428" y="211"/>
                  <a:pt x="1476" y="179"/>
                </a:cubicBezTo>
                <a:cubicBezTo>
                  <a:pt x="1524" y="147"/>
                  <a:pt x="1595" y="100"/>
                  <a:pt x="1640" y="75"/>
                </a:cubicBezTo>
                <a:cubicBezTo>
                  <a:pt x="1685" y="50"/>
                  <a:pt x="1722" y="40"/>
                  <a:pt x="1748" y="31"/>
                </a:cubicBezTo>
                <a:cubicBezTo>
                  <a:pt x="1774" y="22"/>
                  <a:pt x="1779" y="23"/>
                  <a:pt x="1796" y="19"/>
                </a:cubicBezTo>
                <a:cubicBezTo>
                  <a:pt x="1813" y="15"/>
                  <a:pt x="1824" y="9"/>
                  <a:pt x="1848" y="7"/>
                </a:cubicBezTo>
                <a:cubicBezTo>
                  <a:pt x="1872" y="5"/>
                  <a:pt x="1909" y="8"/>
                  <a:pt x="1940" y="7"/>
                </a:cubicBezTo>
                <a:cubicBezTo>
                  <a:pt x="1971" y="6"/>
                  <a:pt x="2000" y="0"/>
                  <a:pt x="2032" y="3"/>
                </a:cubicBezTo>
                <a:cubicBezTo>
                  <a:pt x="2064" y="6"/>
                  <a:pt x="2101" y="16"/>
                  <a:pt x="2132" y="23"/>
                </a:cubicBezTo>
                <a:cubicBezTo>
                  <a:pt x="2163" y="30"/>
                  <a:pt x="2193" y="36"/>
                  <a:pt x="2220" y="47"/>
                </a:cubicBezTo>
                <a:cubicBezTo>
                  <a:pt x="2247" y="58"/>
                  <a:pt x="2266" y="72"/>
                  <a:pt x="2296" y="87"/>
                </a:cubicBezTo>
                <a:cubicBezTo>
                  <a:pt x="2326" y="102"/>
                  <a:pt x="2365" y="120"/>
                  <a:pt x="2400" y="139"/>
                </a:cubicBezTo>
                <a:cubicBezTo>
                  <a:pt x="2435" y="158"/>
                  <a:pt x="2479" y="185"/>
                  <a:pt x="2504" y="203"/>
                </a:cubicBezTo>
                <a:cubicBezTo>
                  <a:pt x="2529" y="221"/>
                  <a:pt x="2540" y="234"/>
                  <a:pt x="2552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and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ensitivity comput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GLoBES v2.0.11 and M. Mezzetto SPL.glb file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etecto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Water Cerenko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440 kt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t Fréjus (130 km from CERN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un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 year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4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2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8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mputed with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=0 (standard benchmark) and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ther parameters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2.5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7.1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66" name=""/>
          <p:cNvSpPr/>
          <p:nvPr/>
        </p:nvSpPr>
        <p:spPr>
          <a:xfrm>
            <a:off x="424008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43016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99040" y="3633840"/>
            <a:ext cx="273240" cy="1057320"/>
          </a:xfrm>
          <a:custGeom>
            <a:avLst/>
            <a:gdLst>
              <a:gd name="textAreaLeft" fmla="*/ 36360 w 273240"/>
              <a:gd name="textAreaRight" fmla="*/ 236880 w 27324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0648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4804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7072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8694800">
            <a:off x="2481480" y="3256560"/>
            <a:ext cx="1387440" cy="128448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321120 h 1284480"/>
              <a:gd name="textAreaBottom" fmla="*/ 963360 h 1284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70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290480" y="172260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748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32040" y="264780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58280" y="268272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465200" y="529128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796200" y="527544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 years positive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488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497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499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507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08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517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ositive focusing vs 10 years mixed scenario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24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544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9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561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566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569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572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5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320400"/>
            <a:ext cx="81536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PL block diagram (CDR 1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20800" y="1065240"/>
            <a:ext cx="69501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acteristics (Conceptual Design Report 1)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“optimized” for a neutrino facto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us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P cavities &amp; klys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to the highest energ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2280" y="2535120"/>
            <a:ext cx="8748720" cy="3727440"/>
            <a:chOff x="152280" y="2535120"/>
            <a:chExt cx="8748720" cy="3727440"/>
          </a:xfrm>
        </p:grpSpPr>
        <p:pic>
          <p:nvPicPr>
            <p:cNvPr id="106" name="spl_layout_02_04" descr=""/>
            <p:cNvPicPr/>
            <p:nvPr/>
          </p:nvPicPr>
          <p:blipFill>
            <a:blip r:embed="rId1"/>
            <a:stretch/>
          </p:blipFill>
          <p:spPr>
            <a:xfrm>
              <a:off x="152280" y="2841840"/>
              <a:ext cx="8748720" cy="34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5723640" y="2535120"/>
              <a:ext cx="2745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.2GeV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neral comparis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~1°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beam (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&gt;0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1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 Beam 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&amp;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beta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587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Neutrino Flux 100km awa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480960" y="1363680"/>
            <a:ext cx="7645680" cy="5092200"/>
            <a:chOff x="480960" y="1363680"/>
            <a:chExt cx="7645680" cy="5092200"/>
          </a:xfrm>
        </p:grpSpPr>
        <p:pic>
          <p:nvPicPr>
            <p:cNvPr id="597" name="" descr=""/>
            <p:cNvPicPr/>
            <p:nvPr/>
          </p:nvPicPr>
          <p:blipFill>
            <a:blip r:embed="rId1"/>
            <a:stretch/>
          </p:blipFill>
          <p:spPr>
            <a:xfrm>
              <a:off x="528840" y="1363680"/>
              <a:ext cx="7597800" cy="500364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98" name=""/>
            <p:cNvSpPr/>
            <p:nvPr/>
          </p:nvSpPr>
          <p:spPr>
            <a:xfrm>
              <a:off x="3176280" y="364356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948360" y="3655800"/>
              <a:ext cx="1122840" cy="37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-315000" y="3795840"/>
              <a:ext cx="20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evts/100m</a:t>
              </a:r>
              <a:r>
                <a:rPr b="0" lang="fr-FR" sz="2400" spc="-1" strike="noStrike" baseline="30000">
                  <a:solidFill>
                    <a:srgbClr val="000099"/>
                  </a:solidFill>
                  <a:latin typeface="Tahoma"/>
                </a:rPr>
                <a:t>2</a:t>
              </a:r>
              <a:r>
                <a:rPr b="0" lang="fr-FR" sz="2400" spc="-1" strike="noStrike">
                  <a:solidFill>
                    <a:srgbClr val="000099"/>
                  </a:solidFill>
                  <a:latin typeface="Tahoma"/>
                </a:rPr>
                <a:t>/y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70280" y="6177960"/>
              <a:ext cx="457200" cy="123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16800" y="6177960"/>
              <a:ext cx="495360" cy="13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65200" y="608508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86160" y="6060600"/>
              <a:ext cx="1122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E</a:t>
              </a:r>
              <a:r>
                <a:rPr b="1" lang="fr-FR" sz="1600" spc="-1" strike="noStrike" baseline="-25000">
                  <a:solidFill>
                    <a:srgbClr val="000099"/>
                  </a:solidFill>
                  <a:latin typeface="Arial"/>
                </a:rPr>
                <a:t>kine </a:t>
              </a:r>
              <a:r>
                <a:rPr b="1" lang="fr-FR" sz="1600" spc="-1" strike="noStrike">
                  <a:solidFill>
                    <a:srgbClr val="000099"/>
                  </a:solidFill>
                  <a:latin typeface="Arial"/>
                </a:rPr>
                <a:t>(GeV)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137360" y="1155600"/>
            <a:ext cx="2006640" cy="1219320"/>
            <a:chOff x="7137360" y="1155600"/>
            <a:chExt cx="2006640" cy="1219320"/>
          </a:xfrm>
        </p:grpSpPr>
        <p:sp>
          <p:nvSpPr>
            <p:cNvPr id="606" name=""/>
            <p:cNvSpPr/>
            <p:nvPr/>
          </p:nvSpPr>
          <p:spPr>
            <a:xfrm>
              <a:off x="7137360" y="1155600"/>
              <a:ext cx="1930680" cy="1219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94560" y="1206360"/>
              <a:ext cx="15494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</a:t>
              </a: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 and </a:t>
              </a:r>
              <a:r>
                <a:rPr b="1" lang="en-US" sz="16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from K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Symbol"/>
                  <a:ea typeface="Symbol"/>
                </a:rPr>
                <a:t>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239240" y="1396800"/>
              <a:ext cx="355320" cy="0"/>
            </a:xfrm>
            <a:prstGeom prst="line">
              <a:avLst/>
            </a:prstGeom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239240" y="1752480"/>
              <a:ext cx="355320" cy="0"/>
            </a:xfrm>
            <a:prstGeom prst="line">
              <a:avLst/>
            </a:prstGeom>
            <a:ln w="1908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39240" y="2120760"/>
              <a:ext cx="3553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7156080" y="69840"/>
            <a:ext cx="1879920" cy="109224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=3.5G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~3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0M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 = 40m,R=2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180240" y="1042920"/>
            <a:ext cx="175500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MARS vs FLUK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97320" cy="35244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15" name=""/>
          <p:cNvSpPr/>
          <p:nvPr/>
        </p:nvSpPr>
        <p:spPr>
          <a:xfrm>
            <a:off x="5796000" y="3213000"/>
            <a:ext cx="22096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 the entrance of the SB decay tunnel (after the horn focusin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16360" y="566100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iscrepancies reduced in the beam li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032600" y="5589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 = 1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angular cu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689160" y="62722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. Cazes thesi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lux calcul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energy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Small bo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focus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eed a high number of events (~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3399"/>
                </a:solidFill>
                <a:latin typeface="Comic Sans MS"/>
                <a:ea typeface="Arial"/>
              </a:rPr>
              <a:t>15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 evts!!!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Use probability (M. Donega thesis approach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ach time a pion,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e the probability for the neutrino to reach the detecto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this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ight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, and fill an histogram with the neutrino energ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ere are few kaons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a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trino spectrum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1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7120" y="225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radients at 700 MHz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0600"/>
            <a:ext cx="55180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st test performed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 in CryHoLab (July 04)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-cell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00 MHz ß=0.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Nb cavity 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5-01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rom CE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/Saclay and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PN-Orsa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1614600"/>
            <a:ext cx="1758960" cy="4281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90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Stephane Chel, HIPPI04, Frankfurt, sep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6600" y="5938920"/>
            <a:ext cx="85042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LEP cavities may have worked 350MHz &amp; 3.6MV/m effective gradi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NuFact Note 04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46280" y="2359080"/>
            <a:ext cx="5256000" cy="3602160"/>
            <a:chOff x="746280" y="2359080"/>
            <a:chExt cx="5256000" cy="360216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46280" y="2359080"/>
              <a:ext cx="525600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165480" y="3454560"/>
              <a:ext cx="485640" cy="458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New optimization questioned @ MMW04*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32880" y="1333080"/>
            <a:ext cx="489132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Particle produc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Horn design optimisa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Decay tunnel parameter optimisation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Flux computation at Fréju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66ff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3366ff"/>
                </a:solidFill>
                <a:latin typeface="Symbol"/>
                <a:ea typeface="Symbol"/>
              </a:rPr>
              <a:t></a:t>
            </a: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366ff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3366ff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3366ff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3366ff"/>
                </a:solidFill>
                <a:latin typeface="Comic Sans MS"/>
              </a:rPr>
              <a:t> sensitivity</a:t>
            </a:r>
            <a:r>
              <a:rPr b="0" lang="en-GB" sz="2800" spc="-1" strike="noStrike">
                <a:solidFill>
                  <a:srgbClr val="3366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839200" y="610236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LAL – 04-102  submitted to EPJC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252760" y="1023840"/>
            <a:ext cx="2055960" cy="1067040"/>
            <a:chOff x="5252760" y="1023840"/>
            <a:chExt cx="2055960" cy="1067040"/>
          </a:xfrm>
        </p:grpSpPr>
        <p:sp>
          <p:nvSpPr>
            <p:cNvPr id="120" name=""/>
            <p:cNvSpPr/>
            <p:nvPr/>
          </p:nvSpPr>
          <p:spPr>
            <a:xfrm>
              <a:off x="5252760" y="102384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27280" y="1633680"/>
              <a:ext cx="4572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7120" y="1481040"/>
              <a:ext cx="228600" cy="38124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89400" y="1481040"/>
              <a:ext cx="685800" cy="381240"/>
            </a:xfrm>
            <a:prstGeom prst="rect">
              <a:avLst/>
            </a:prstGeom>
            <a:solidFill>
              <a:srgbClr val="000099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98880" y="1481040"/>
              <a:ext cx="228600" cy="381240"/>
            </a:xfrm>
            <a:prstGeom prst="ellipse">
              <a:avLst/>
            </a:prstGeom>
            <a:solidFill>
              <a:srgbClr val="000099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03800" y="1709640"/>
              <a:ext cx="30492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7003800" y="1328400"/>
              <a:ext cx="228600" cy="152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3800" y="1938240"/>
              <a:ext cx="228600" cy="1526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402160" y="2135160"/>
            <a:ext cx="2006640" cy="990720"/>
            <a:chOff x="5402160" y="2135160"/>
            <a:chExt cx="2006640" cy="990720"/>
          </a:xfrm>
        </p:grpSpPr>
        <p:sp>
          <p:nvSpPr>
            <p:cNvPr id="129" name=""/>
            <p:cNvSpPr/>
            <p:nvPr/>
          </p:nvSpPr>
          <p:spPr>
            <a:xfrm>
              <a:off x="5402160" y="259236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02160" y="274500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012000" y="2287800"/>
              <a:ext cx="990360" cy="304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12000" y="2745000"/>
              <a:ext cx="990360" cy="3045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402160" y="221148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5402160" y="2745000"/>
              <a:ext cx="0" cy="380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02160" y="2211480"/>
              <a:ext cx="1600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02360" y="2211480"/>
              <a:ext cx="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02160" y="3125880"/>
              <a:ext cx="1600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02360" y="3049560"/>
              <a:ext cx="0" cy="76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2160" y="2668680"/>
              <a:ext cx="609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30760" y="2427480"/>
              <a:ext cx="1447920" cy="241200"/>
            </a:xfrm>
            <a:custGeom>
              <a:avLst/>
              <a:gdLst/>
              <a:ahLst/>
              <a:rect l="l" t="t" r="r" b="b"/>
              <a:pathLst>
                <a:path w="912" h="152">
                  <a:moveTo>
                    <a:pt x="0" y="152"/>
                  </a:moveTo>
                  <a:cubicBezTo>
                    <a:pt x="24" y="116"/>
                    <a:pt x="48" y="80"/>
                    <a:pt x="96" y="56"/>
                  </a:cubicBezTo>
                  <a:cubicBezTo>
                    <a:pt x="144" y="32"/>
                    <a:pt x="216" y="16"/>
                    <a:pt x="288" y="8"/>
                  </a:cubicBezTo>
                  <a:cubicBezTo>
                    <a:pt x="360" y="0"/>
                    <a:pt x="424" y="8"/>
                    <a:pt x="528" y="8"/>
                  </a:cubicBezTo>
                  <a:cubicBezTo>
                    <a:pt x="632" y="8"/>
                    <a:pt x="772" y="8"/>
                    <a:pt x="912" y="8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04160" y="2135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692680" y="3303720"/>
            <a:ext cx="2184120" cy="898560"/>
            <a:chOff x="5692680" y="3303720"/>
            <a:chExt cx="2184120" cy="898560"/>
          </a:xfrm>
        </p:grpSpPr>
        <p:sp>
          <p:nvSpPr>
            <p:cNvPr id="143" name=""/>
            <p:cNvSpPr/>
            <p:nvPr/>
          </p:nvSpPr>
          <p:spPr>
            <a:xfrm>
              <a:off x="6562440" y="3592440"/>
              <a:ext cx="685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33840" y="3592440"/>
              <a:ext cx="456840" cy="6098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019640" y="3592440"/>
              <a:ext cx="456840" cy="6098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62440" y="4202280"/>
              <a:ext cx="685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92680" y="3359160"/>
              <a:ext cx="404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89520" y="3917880"/>
              <a:ext cx="4568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84400" y="3303720"/>
              <a:ext cx="392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324560" y="3917880"/>
              <a:ext cx="4568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807160" y="4435200"/>
            <a:ext cx="1295280" cy="533520"/>
            <a:chOff x="5807160" y="4435200"/>
            <a:chExt cx="1295280" cy="533520"/>
          </a:xfrm>
        </p:grpSpPr>
        <p:sp>
          <p:nvSpPr>
            <p:cNvPr id="152" name=""/>
            <p:cNvSpPr/>
            <p:nvPr/>
          </p:nvSpPr>
          <p:spPr>
            <a:xfrm flipV="1">
              <a:off x="5807160" y="4435200"/>
              <a:ext cx="0" cy="5331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7160" y="496872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07160" y="4489920"/>
              <a:ext cx="971280" cy="470880"/>
            </a:xfrm>
            <a:custGeom>
              <a:avLst/>
              <a:gdLst/>
              <a:ahLst/>
              <a:rect l="l" t="t" r="r" b="b"/>
              <a:pathLst>
                <a:path w="720" h="424">
                  <a:moveTo>
                    <a:pt x="0" y="424"/>
                  </a:moveTo>
                  <a:cubicBezTo>
                    <a:pt x="36" y="384"/>
                    <a:pt x="72" y="344"/>
                    <a:pt x="96" y="280"/>
                  </a:cubicBezTo>
                  <a:cubicBezTo>
                    <a:pt x="120" y="216"/>
                    <a:pt x="128" y="80"/>
                    <a:pt x="144" y="40"/>
                  </a:cubicBezTo>
                  <a:cubicBezTo>
                    <a:pt x="160" y="0"/>
                    <a:pt x="176" y="24"/>
                    <a:pt x="192" y="40"/>
                  </a:cubicBezTo>
                  <a:cubicBezTo>
                    <a:pt x="208" y="56"/>
                    <a:pt x="224" y="96"/>
                    <a:pt x="240" y="136"/>
                  </a:cubicBezTo>
                  <a:cubicBezTo>
                    <a:pt x="256" y="176"/>
                    <a:pt x="256" y="240"/>
                    <a:pt x="288" y="280"/>
                  </a:cubicBezTo>
                  <a:cubicBezTo>
                    <a:pt x="320" y="320"/>
                    <a:pt x="360" y="352"/>
                    <a:pt x="432" y="376"/>
                  </a:cubicBezTo>
                  <a:cubicBezTo>
                    <a:pt x="504" y="400"/>
                    <a:pt x="612" y="412"/>
                    <a:pt x="720" y="424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784840" y="5272200"/>
            <a:ext cx="838080" cy="838080"/>
            <a:chOff x="5784840" y="5272200"/>
            <a:chExt cx="838080" cy="838080"/>
          </a:xfrm>
        </p:grpSpPr>
        <p:sp>
          <p:nvSpPr>
            <p:cNvPr id="156" name=""/>
            <p:cNvSpPr/>
            <p:nvPr/>
          </p:nvSpPr>
          <p:spPr>
            <a:xfrm>
              <a:off x="5784840" y="5272200"/>
              <a:ext cx="838080" cy="83808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57080" y="5272200"/>
              <a:ext cx="465480" cy="838080"/>
            </a:xfrm>
            <a:custGeom>
              <a:avLst/>
              <a:gdLst/>
              <a:ahLst/>
              <a:rect l="l" t="t" r="r" b="b"/>
              <a:pathLst>
                <a:path w="400" h="672">
                  <a:moveTo>
                    <a:pt x="64" y="0"/>
                  </a:moveTo>
                  <a:cubicBezTo>
                    <a:pt x="88" y="16"/>
                    <a:pt x="112" y="32"/>
                    <a:pt x="112" y="48"/>
                  </a:cubicBezTo>
                  <a:cubicBezTo>
                    <a:pt x="112" y="64"/>
                    <a:pt x="64" y="72"/>
                    <a:pt x="64" y="96"/>
                  </a:cubicBezTo>
                  <a:cubicBezTo>
                    <a:pt x="64" y="120"/>
                    <a:pt x="112" y="168"/>
                    <a:pt x="112" y="192"/>
                  </a:cubicBezTo>
                  <a:cubicBezTo>
                    <a:pt x="112" y="216"/>
                    <a:pt x="56" y="224"/>
                    <a:pt x="64" y="240"/>
                  </a:cubicBezTo>
                  <a:cubicBezTo>
                    <a:pt x="72" y="256"/>
                    <a:pt x="168" y="264"/>
                    <a:pt x="160" y="288"/>
                  </a:cubicBezTo>
                  <a:cubicBezTo>
                    <a:pt x="152" y="312"/>
                    <a:pt x="32" y="352"/>
                    <a:pt x="16" y="384"/>
                  </a:cubicBezTo>
                  <a:cubicBezTo>
                    <a:pt x="0" y="416"/>
                    <a:pt x="0" y="432"/>
                    <a:pt x="64" y="480"/>
                  </a:cubicBezTo>
                  <a:cubicBezTo>
                    <a:pt x="128" y="528"/>
                    <a:pt x="264" y="600"/>
                    <a:pt x="400" y="672"/>
                  </a:cubicBezTo>
                </a:path>
              </a:pathLst>
            </a:custGeom>
            <a:noFill/>
            <a:ln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934320" y="5268960"/>
            <a:ext cx="841320" cy="838080"/>
            <a:chOff x="6934320" y="5268960"/>
            <a:chExt cx="841320" cy="838080"/>
          </a:xfrm>
        </p:grpSpPr>
        <p:sp>
          <p:nvSpPr>
            <p:cNvPr id="159" name=""/>
            <p:cNvSpPr/>
            <p:nvPr/>
          </p:nvSpPr>
          <p:spPr>
            <a:xfrm>
              <a:off x="6937560" y="5268960"/>
              <a:ext cx="838080" cy="838080"/>
            </a:xfrm>
            <a:prstGeom prst="rect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934320" y="5506920"/>
              <a:ext cx="833400" cy="341280"/>
            </a:xfrm>
            <a:custGeom>
              <a:avLst/>
              <a:gdLst/>
              <a:ahLst/>
              <a:rect l="l" t="t" r="r" b="b"/>
              <a:pathLst>
                <a:path w="525" h="215">
                  <a:moveTo>
                    <a:pt x="0" y="104"/>
                  </a:moveTo>
                  <a:cubicBezTo>
                    <a:pt x="43" y="159"/>
                    <a:pt x="86" y="215"/>
                    <a:pt x="147" y="200"/>
                  </a:cubicBezTo>
                  <a:cubicBezTo>
                    <a:pt x="208" y="185"/>
                    <a:pt x="303" y="28"/>
                    <a:pt x="366" y="14"/>
                  </a:cubicBezTo>
                  <a:cubicBezTo>
                    <a:pt x="429" y="0"/>
                    <a:pt x="477" y="58"/>
                    <a:pt x="525" y="116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221760" y="6249960"/>
            <a:ext cx="57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*: Multi MegaWatt Workshop at CERN 26-28 May 0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Particle produc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08200" y="1523520"/>
            <a:ext cx="8030880" cy="41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Proton beam 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Pencil lik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E</a:t>
            </a:r>
            <a:r>
              <a:rPr b="0" lang="fr-FR" sz="2400" spc="-1" strike="noStrike" baseline="-25000">
                <a:solidFill>
                  <a:srgbClr val="000099"/>
                </a:solidFill>
                <a:latin typeface="Comic Sans MS"/>
              </a:rPr>
              <a:t>k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=</a:t>
            </a:r>
            <a:r>
              <a:rPr b="1" lang="fr-FR" sz="2400" spc="-1" strike="noStrike">
                <a:solidFill>
                  <a:srgbClr val="000099"/>
                </a:solidFill>
                <a:latin typeface="Comic Sans MS"/>
              </a:rPr>
              <a:t>2.2GeV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fr-FR" sz="2400" spc="-1" strike="noStrike">
                <a:solidFill>
                  <a:srgbClr val="008000"/>
                </a:solidFill>
                <a:latin typeface="Comic Sans MS"/>
              </a:rPr>
              <a:t>3.5GeV</a:t>
            </a:r>
            <a:r>
              <a:rPr b="0" lang="fr-FR" sz="2400" spc="-1" strike="noStrike">
                <a:solidFill>
                  <a:srgbClr val="008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Target :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30cm long cylinder,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</a:t>
            </a: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15mm in Liq. Hg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omic Sans MS"/>
              </a:rPr>
              <a:t>FLUKA 2002.4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Normalized to a power of 4MW: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1.14 10</a:t>
            </a:r>
            <a:r>
              <a:rPr b="0" lang="en-GB" sz="2800" spc="-1" strike="noStrike" baseline="30000">
                <a:solidFill>
                  <a:srgbClr val="000099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 pot/yr @ 2.2GeV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0.71 10</a:t>
            </a:r>
            <a:r>
              <a:rPr b="0" lang="en-GB" sz="2800" spc="-1" strike="noStrike" baseline="30000">
                <a:solidFill>
                  <a:srgbClr val="008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8000"/>
                </a:solidFill>
                <a:latin typeface="Comic Sans MS"/>
              </a:rPr>
              <a:t> pot/yr @ 3.5GeV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Beam vs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act Opt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4360" y="1362240"/>
            <a:ext cx="3735360" cy="4516920"/>
            <a:chOff x="684360" y="1362240"/>
            <a:chExt cx="3735360" cy="4516920"/>
          </a:xfrm>
        </p:grpSpPr>
        <p:grpSp>
          <p:nvGrpSpPr>
            <p:cNvPr id="166" name=""/>
            <p:cNvGrpSpPr/>
            <p:nvPr/>
          </p:nvGrpSpPr>
          <p:grpSpPr>
            <a:xfrm>
              <a:off x="684360" y="1800360"/>
              <a:ext cx="3735360" cy="3166560"/>
              <a:chOff x="684360" y="1800360"/>
              <a:chExt cx="3735360" cy="3166560"/>
            </a:xfrm>
          </p:grpSpPr>
          <p:sp>
            <p:nvSpPr>
              <p:cNvPr id="167" name=""/>
              <p:cNvSpPr/>
              <p:nvPr/>
            </p:nvSpPr>
            <p:spPr>
              <a:xfrm flipV="1">
                <a:off x="2174760" y="2158560"/>
                <a:ext cx="0" cy="28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4360" y="3527280"/>
                <a:ext cx="3457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832400" y="1800360"/>
                <a:ext cx="737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/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104720" y="331164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6200000">
                <a:off x="1992240" y="2279520"/>
                <a:ext cx="396720" cy="24606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67520" y="2879640"/>
                <a:ext cx="118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20 mrad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99760" y="3598920"/>
                <a:ext cx="63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2 m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023840" y="1362240"/>
              <a:ext cx="22136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99"/>
                  </a:solidFill>
                  <a:latin typeface="Comic Sans MS"/>
                </a:rPr>
                <a:t>Super Beam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88920" y="5175360"/>
              <a:ext cx="2410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Spot size @ 130k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Decay tunnel size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780080" y="1360440"/>
            <a:ext cx="3814920" cy="4516920"/>
            <a:chOff x="4780080" y="1360440"/>
            <a:chExt cx="3814920" cy="4516920"/>
          </a:xfrm>
        </p:grpSpPr>
        <p:grpSp>
          <p:nvGrpSpPr>
            <p:cNvPr id="177" name=""/>
            <p:cNvGrpSpPr/>
            <p:nvPr/>
          </p:nvGrpSpPr>
          <p:grpSpPr>
            <a:xfrm>
              <a:off x="4859280" y="1800360"/>
              <a:ext cx="3735720" cy="3166920"/>
              <a:chOff x="4859280" y="1800360"/>
              <a:chExt cx="3735720" cy="3166920"/>
            </a:xfrm>
          </p:grpSpPr>
          <p:sp>
            <p:nvSpPr>
              <p:cNvPr id="178" name=""/>
              <p:cNvSpPr/>
              <p:nvPr/>
            </p:nvSpPr>
            <p:spPr>
              <a:xfrm flipV="1">
                <a:off x="6350040" y="2159280"/>
                <a:ext cx="0" cy="28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859280" y="3527640"/>
                <a:ext cx="345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989680" y="2519640"/>
                <a:ext cx="718920" cy="2087280"/>
              </a:xfrm>
              <a:prstGeom prst="ellipse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07320" y="1800360"/>
                <a:ext cx="7372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x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/p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280000" y="331164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98280" y="2266920"/>
                <a:ext cx="848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½ rad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68720" y="3527640"/>
                <a:ext cx="833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Comic Sans MS"/>
                  </a:rPr>
                  <a:t>30cm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5845680" y="1360440"/>
              <a:ext cx="10479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</a:t>
              </a:r>
              <a:r>
                <a:rPr b="0" lang="en-GB" sz="2800" spc="-1" strike="noStrike">
                  <a:solidFill>
                    <a:srgbClr val="008000"/>
                  </a:solidFill>
                  <a:latin typeface="Comic Sans MS"/>
                </a:rPr>
                <a:t>Fact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80080" y="5173560"/>
              <a:ext cx="315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Decay channel solenoid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Aperture and B strength 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5698800" y="6302520"/>
            <a:ext cx="34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Thanks S. Gilardoni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ion produc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016520" y="0"/>
            <a:ext cx="3217320" cy="1366920"/>
            <a:chOff x="4016520" y="0"/>
            <a:chExt cx="3217320" cy="1366920"/>
          </a:xfrm>
        </p:grpSpPr>
        <p:sp>
          <p:nvSpPr>
            <p:cNvPr id="190" name=""/>
            <p:cNvSpPr/>
            <p:nvPr/>
          </p:nvSpPr>
          <p:spPr>
            <a:xfrm>
              <a:off x="4713120" y="9352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6200000">
              <a:off x="5702760" y="378360"/>
              <a:ext cx="541080" cy="1079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867280" y="432000"/>
              <a:ext cx="5029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1079640"/>
              <a:ext cx="502920" cy="287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57840" y="935280"/>
              <a:ext cx="57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16520" y="50328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p (2.2GeV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447240" y="0"/>
              <a:ext cx="63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</a:t>
              </a:r>
              <a:r>
                <a:rPr b="0" lang="en-GB" sz="4000" spc="-1" strike="noStrike" baseline="30000">
                  <a:solidFill>
                    <a:srgbClr val="0000ff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788080" y="719280"/>
              <a:ext cx="5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Hg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762560" y="1373040"/>
            <a:ext cx="7821360" cy="4325760"/>
            <a:chOff x="1762560" y="1373040"/>
            <a:chExt cx="7821360" cy="4325760"/>
          </a:xfrm>
        </p:grpSpPr>
        <p:grpSp>
          <p:nvGrpSpPr>
            <p:cNvPr id="199" name=""/>
            <p:cNvGrpSpPr/>
            <p:nvPr/>
          </p:nvGrpSpPr>
          <p:grpSpPr>
            <a:xfrm>
              <a:off x="1762560" y="1373040"/>
              <a:ext cx="7821360" cy="4325760"/>
              <a:chOff x="1762560" y="1373040"/>
              <a:chExt cx="7821360" cy="4325760"/>
            </a:xfrm>
          </p:grpSpPr>
          <p:pic>
            <p:nvPicPr>
              <p:cNvPr id="2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817640" y="1720440"/>
                <a:ext cx="5867280" cy="3978360"/>
              </a:xfrm>
              <a:prstGeom prst="rect">
                <a:avLst/>
              </a:prstGeom>
              <a:ln w="38160">
                <a:solidFill>
                  <a:srgbClr val="ffff00"/>
                </a:solidFill>
                <a:miter/>
              </a:ln>
            </p:spPr>
          </p:pic>
          <p:grpSp>
            <p:nvGrpSpPr>
              <p:cNvPr id="201" name=""/>
              <p:cNvGrpSpPr/>
              <p:nvPr/>
            </p:nvGrpSpPr>
            <p:grpSpPr>
              <a:xfrm>
                <a:off x="2854440" y="3625560"/>
                <a:ext cx="1512720" cy="1664640"/>
                <a:chOff x="2854440" y="3625560"/>
                <a:chExt cx="1512720" cy="1664640"/>
              </a:xfrm>
            </p:grpSpPr>
            <p:sp>
              <p:nvSpPr>
                <p:cNvPr id="202" name=""/>
                <p:cNvSpPr/>
                <p:nvPr/>
              </p:nvSpPr>
              <p:spPr>
                <a:xfrm flipV="1">
                  <a:off x="2854440" y="4296960"/>
                  <a:ext cx="0" cy="993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4367160" y="4296960"/>
                  <a:ext cx="0" cy="993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203640" y="3625560"/>
                  <a:ext cx="802440" cy="3988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99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fr-FR" sz="2000" spc="-1" strike="noStrike">
                      <a:solidFill>
                        <a:srgbClr val="000099"/>
                      </a:solidFill>
                      <a:latin typeface="Tahoma"/>
                    </a:rPr>
                    <a:t>Fact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2854440" y="4078080"/>
                  <a:ext cx="407520" cy="218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3959280" y="4078080"/>
                  <a:ext cx="407520" cy="218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496040" y="3624120"/>
                <a:ext cx="487080" cy="1666080"/>
                <a:chOff x="4496040" y="3624120"/>
                <a:chExt cx="487080" cy="1666080"/>
              </a:xfrm>
            </p:grpSpPr>
            <p:grpSp>
              <p:nvGrpSpPr>
                <p:cNvPr id="208" name=""/>
                <p:cNvGrpSpPr/>
                <p:nvPr/>
              </p:nvGrpSpPr>
              <p:grpSpPr>
                <a:xfrm>
                  <a:off x="4500720" y="3995280"/>
                  <a:ext cx="466920" cy="1294920"/>
                  <a:chOff x="4500720" y="3995280"/>
                  <a:chExt cx="466920" cy="129492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 flipV="1">
                    <a:off x="4500720" y="3995280"/>
                    <a:ext cx="0" cy="129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 flipV="1">
                    <a:off x="4967640" y="3995280"/>
                    <a:ext cx="0" cy="129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1" name=""/>
                <p:cNvSpPr/>
                <p:nvPr/>
              </p:nvSpPr>
              <p:spPr>
                <a:xfrm>
                  <a:off x="4496040" y="3624120"/>
                  <a:ext cx="487080" cy="398880"/>
                </a:xfrm>
                <a:prstGeom prst="rect">
                  <a:avLst/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2000" spc="-1" strike="noStrike">
                      <a:solidFill>
                        <a:srgbClr val="000099"/>
                      </a:solidFill>
                      <a:latin typeface="Tahoma"/>
                    </a:rPr>
                    <a:t>SB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2" name=""/>
              <p:cNvSpPr/>
              <p:nvPr/>
            </p:nvSpPr>
            <p:spPr>
              <a:xfrm>
                <a:off x="1762560" y="1373040"/>
                <a:ext cx="2661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99"/>
                    </a:solidFill>
                    <a:latin typeface="Tahoma"/>
                  </a:rPr>
                  <a:t>at the exit of the target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627360" y="3282840"/>
                <a:ext cx="14400" cy="31896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97320" y="2820600"/>
                <a:ext cx="615744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3399"/>
                    </a:solidFill>
                    <a:latin typeface="Comic Sans MS"/>
                  </a:rPr>
                  <a:t>Horn optimisation by S. Gilardoni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5045040" y="3876480"/>
                <a:ext cx="563760" cy="1584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37120" y="3562200"/>
                <a:ext cx="4546800" cy="45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400" spc="-1" strike="noStrike">
                    <a:solidFill>
                      <a:srgbClr val="003399"/>
                    </a:solidFill>
                    <a:latin typeface="Comic Sans MS"/>
                  </a:rPr>
                  <a:t>This new optimisation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6259680" y="1746000"/>
              <a:ext cx="126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2 10</a:t>
              </a:r>
              <a:r>
                <a:rPr b="1" lang="fr-FR" sz="2000" spc="-1" strike="noStrike" baseline="30000">
                  <a:solidFill>
                    <a:srgbClr val="000000"/>
                  </a:solidFill>
                  <a:latin typeface="Tahoma"/>
                </a:rPr>
                <a:t>5</a:t>
              </a:r>
              <a:r>
                <a:rPr b="1" lang="fr-FR" sz="2000" spc="-1" strike="noStrike">
                  <a:solidFill>
                    <a:srgbClr val="000000"/>
                  </a:solidFill>
                  <a:latin typeface="Tahoma"/>
                </a:rPr>
                <a:t> pot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259280" y="5856120"/>
            <a:ext cx="7113240" cy="56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Rule of thumb: E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/3~ E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MeV)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2800" spc="-1" strike="noStrike">
                <a:solidFill>
                  <a:srgbClr val="003399"/>
                </a:solidFill>
                <a:latin typeface="Math3"/>
                <a:ea typeface="Math3"/>
              </a:rPr>
              <a:t>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.L(km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Kaon production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>
            <a:off x="328680" y="4572000"/>
            <a:ext cx="5691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Tahoma"/>
              </a:rPr>
              <a:t>at 2.2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26 </a:t>
            </a: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0.8 10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0099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0400" y="914400"/>
            <a:ext cx="30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see BENE meeting 11/09/0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49800" y="4965840"/>
            <a:ext cx="3200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ahoma"/>
              </a:rPr>
              <a:t>at 3.5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0.29 </a:t>
            </a:r>
            <a:r>
              <a:rPr b="0" lang="fr-FR" sz="24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2.8 10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ff0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134040" y="4954680"/>
            <a:ext cx="28242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8000"/>
                </a:solidFill>
                <a:latin typeface="Tahoma"/>
              </a:rPr>
              <a:t>at 4.5GeV 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0.32 </a:t>
            </a:r>
            <a:r>
              <a:rPr b="0" lang="fr-FR" sz="2400" spc="-1" strike="noStrike">
                <a:solidFill>
                  <a:srgbClr val="008000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/s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5.2 10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-3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 K</a:t>
            </a:r>
            <a:r>
              <a:rPr b="0" lang="fr-FR" sz="2400" spc="-1" strike="noStrike" baseline="30000">
                <a:solidFill>
                  <a:srgbClr val="008000"/>
                </a:solidFill>
                <a:latin typeface="Tahoma"/>
              </a:rPr>
              <a:t>+</a:t>
            </a: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/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30640" y="5076720"/>
            <a:ext cx="88920" cy="12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99040" y="5067360"/>
            <a:ext cx="88920" cy="1236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1640" y="1263600"/>
            <a:ext cx="8573400" cy="3346560"/>
            <a:chOff x="251640" y="1263600"/>
            <a:chExt cx="8573400" cy="3346560"/>
          </a:xfrm>
        </p:grpSpPr>
        <p:pic>
          <p:nvPicPr>
            <p:cNvPr id="227" name="" descr=""/>
            <p:cNvPicPr/>
            <p:nvPr/>
          </p:nvPicPr>
          <p:blipFill>
            <a:blip r:embed="rId1">
              <a:lum contrast="36000"/>
            </a:blip>
            <a:stretch/>
          </p:blipFill>
          <p:spPr>
            <a:xfrm>
              <a:off x="420840" y="1263600"/>
              <a:ext cx="8404200" cy="3322800"/>
            </a:xfrm>
            <a:prstGeom prst="rect">
              <a:avLst/>
            </a:prstGeom>
            <a:ln w="38160">
              <a:solidFill>
                <a:srgbClr val="ffff00"/>
              </a:solidFill>
              <a:miter/>
            </a:ln>
          </p:spPr>
        </p:pic>
        <p:sp>
          <p:nvSpPr>
            <p:cNvPr id="228" name=""/>
            <p:cNvSpPr/>
            <p:nvPr/>
          </p:nvSpPr>
          <p:spPr>
            <a:xfrm>
              <a:off x="7719840" y="4398840"/>
              <a:ext cx="638280" cy="138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78000" y="2655720"/>
              <a:ext cx="263520" cy="0"/>
            </a:xfrm>
            <a:prstGeom prst="line">
              <a:avLst/>
            </a:prstGeom>
            <a:ln cap="rnd" w="19080">
              <a:solidFill>
                <a:srgbClr val="0000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7160" y="1728720"/>
              <a:ext cx="801720" cy="10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411880" y="1728720"/>
              <a:ext cx="725400" cy="90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94160" y="4359240"/>
              <a:ext cx="701640" cy="15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94160" y="4259520"/>
              <a:ext cx="81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E</a:t>
              </a:r>
              <a:r>
                <a:rPr b="1" lang="en-GB" sz="1400" spc="-1" strike="noStrike" baseline="-25000">
                  <a:solidFill>
                    <a:srgbClr val="000099"/>
                  </a:solidFill>
                  <a:latin typeface="Tahoma"/>
                </a:rPr>
                <a:t>p</a:t>
              </a: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(GeV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80240" y="4273920"/>
              <a:ext cx="81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E</a:t>
              </a:r>
              <a:r>
                <a:rPr b="1" lang="en-GB" sz="1400" spc="-1" strike="noStrike" baseline="-25000">
                  <a:solidFill>
                    <a:srgbClr val="000099"/>
                  </a:solidFill>
                  <a:latin typeface="Tahoma"/>
                </a:rPr>
                <a:t>p</a:t>
              </a:r>
              <a:r>
                <a:rPr b="1" lang="en-GB" sz="1400" spc="-1" strike="noStrike">
                  <a:solidFill>
                    <a:srgbClr val="000099"/>
                  </a:solidFill>
                  <a:latin typeface="Tahoma"/>
                </a:rPr>
                <a:t>(GeV)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35840" y="1827720"/>
              <a:ext cx="4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ahoma"/>
                </a:rPr>
                <a:t>+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59120" y="2437560"/>
              <a:ext cx="36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1" lang="en-US" sz="2000" spc="-1" strike="noStrike" baseline="30000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84720" y="189288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+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42920" y="3674160"/>
              <a:ext cx="38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-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23760" y="287100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K</a:t>
              </a:r>
              <a:r>
                <a:rPr b="0" lang="en-US" sz="2000" spc="-1" strike="noStrike" baseline="30000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15920" y="3639960"/>
              <a:ext cx="1917720" cy="474840"/>
            </a:xfrm>
            <a:custGeom>
              <a:avLst/>
              <a:gdLst/>
              <a:ahLst/>
              <a:rect l="l" t="t" r="r" b="b"/>
              <a:pathLst>
                <a:path w="1208" h="299">
                  <a:moveTo>
                    <a:pt x="0" y="299"/>
                  </a:moveTo>
                  <a:cubicBezTo>
                    <a:pt x="57" y="290"/>
                    <a:pt x="116" y="284"/>
                    <a:pt x="200" y="263"/>
                  </a:cubicBezTo>
                  <a:cubicBezTo>
                    <a:pt x="284" y="242"/>
                    <a:pt x="437" y="200"/>
                    <a:pt x="508" y="175"/>
                  </a:cubicBezTo>
                  <a:cubicBezTo>
                    <a:pt x="579" y="150"/>
                    <a:pt x="591" y="128"/>
                    <a:pt x="628" y="111"/>
                  </a:cubicBezTo>
                  <a:cubicBezTo>
                    <a:pt x="665" y="94"/>
                    <a:pt x="681" y="89"/>
                    <a:pt x="728" y="75"/>
                  </a:cubicBezTo>
                  <a:cubicBezTo>
                    <a:pt x="775" y="61"/>
                    <a:pt x="854" y="0"/>
                    <a:pt x="912" y="27"/>
                  </a:cubicBezTo>
                  <a:cubicBezTo>
                    <a:pt x="970" y="54"/>
                    <a:pt x="1027" y="199"/>
                    <a:pt x="1076" y="235"/>
                  </a:cubicBezTo>
                  <a:cubicBezTo>
                    <a:pt x="1125" y="271"/>
                    <a:pt x="1184" y="242"/>
                    <a:pt x="1208" y="243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01960" y="1731960"/>
              <a:ext cx="1219320" cy="2306520"/>
            </a:xfrm>
            <a:custGeom>
              <a:avLst/>
              <a:gdLst/>
              <a:ahLst/>
              <a:rect l="l" t="t" r="r" b="b"/>
              <a:pathLst>
                <a:path w="768" h="1453">
                  <a:moveTo>
                    <a:pt x="0" y="1453"/>
                  </a:moveTo>
                  <a:cubicBezTo>
                    <a:pt x="66" y="1374"/>
                    <a:pt x="133" y="1295"/>
                    <a:pt x="192" y="1181"/>
                  </a:cubicBezTo>
                  <a:cubicBezTo>
                    <a:pt x="251" y="1067"/>
                    <a:pt x="288" y="945"/>
                    <a:pt x="356" y="769"/>
                  </a:cubicBezTo>
                  <a:cubicBezTo>
                    <a:pt x="424" y="593"/>
                    <a:pt x="531" y="250"/>
                    <a:pt x="600" y="125"/>
                  </a:cubicBezTo>
                  <a:cubicBezTo>
                    <a:pt x="669" y="0"/>
                    <a:pt x="718" y="8"/>
                    <a:pt x="768" y="17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22400" y="2317680"/>
              <a:ext cx="3098880" cy="1824120"/>
            </a:xfrm>
            <a:custGeom>
              <a:avLst/>
              <a:gdLst/>
              <a:ahLst/>
              <a:rect l="l" t="t" r="r" b="b"/>
              <a:pathLst>
                <a:path w="1952" h="1149">
                  <a:moveTo>
                    <a:pt x="0" y="1140"/>
                  </a:moveTo>
                  <a:cubicBezTo>
                    <a:pt x="161" y="1128"/>
                    <a:pt x="323" y="1116"/>
                    <a:pt x="436" y="1092"/>
                  </a:cubicBezTo>
                  <a:cubicBezTo>
                    <a:pt x="549" y="1068"/>
                    <a:pt x="601" y="1026"/>
                    <a:pt x="676" y="996"/>
                  </a:cubicBezTo>
                  <a:cubicBezTo>
                    <a:pt x="751" y="966"/>
                    <a:pt x="821" y="896"/>
                    <a:pt x="888" y="912"/>
                  </a:cubicBezTo>
                  <a:cubicBezTo>
                    <a:pt x="955" y="928"/>
                    <a:pt x="1021" y="1065"/>
                    <a:pt x="1080" y="1092"/>
                  </a:cubicBezTo>
                  <a:cubicBezTo>
                    <a:pt x="1139" y="1119"/>
                    <a:pt x="1165" y="1149"/>
                    <a:pt x="1240" y="1072"/>
                  </a:cubicBezTo>
                  <a:cubicBezTo>
                    <a:pt x="1315" y="995"/>
                    <a:pt x="1458" y="756"/>
                    <a:pt x="1528" y="632"/>
                  </a:cubicBezTo>
                  <a:cubicBezTo>
                    <a:pt x="1598" y="508"/>
                    <a:pt x="1606" y="403"/>
                    <a:pt x="1660" y="328"/>
                  </a:cubicBezTo>
                  <a:cubicBezTo>
                    <a:pt x="1714" y="253"/>
                    <a:pt x="1813" y="233"/>
                    <a:pt x="1852" y="184"/>
                  </a:cubicBezTo>
                  <a:cubicBezTo>
                    <a:pt x="1891" y="135"/>
                    <a:pt x="1875" y="63"/>
                    <a:pt x="1892" y="32"/>
                  </a:cubicBezTo>
                  <a:cubicBezTo>
                    <a:pt x="1909" y="1"/>
                    <a:pt x="1930" y="0"/>
                    <a:pt x="1952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15920" y="4044960"/>
              <a:ext cx="3117960" cy="201600"/>
            </a:xfrm>
            <a:custGeom>
              <a:avLst/>
              <a:gdLst/>
              <a:ahLst/>
              <a:rect l="l" t="t" r="r" b="b"/>
              <a:pathLst>
                <a:path w="1964" h="127">
                  <a:moveTo>
                    <a:pt x="0" y="112"/>
                  </a:moveTo>
                  <a:cubicBezTo>
                    <a:pt x="462" y="119"/>
                    <a:pt x="925" y="127"/>
                    <a:pt x="1220" y="112"/>
                  </a:cubicBezTo>
                  <a:cubicBezTo>
                    <a:pt x="1515" y="97"/>
                    <a:pt x="1648" y="43"/>
                    <a:pt x="1772" y="24"/>
                  </a:cubicBezTo>
                  <a:cubicBezTo>
                    <a:pt x="1896" y="5"/>
                    <a:pt x="1930" y="2"/>
                    <a:pt x="1964" y="0"/>
                  </a:cubicBezTo>
                </a:path>
              </a:pathLst>
            </a:custGeom>
            <a:noFill/>
            <a:ln w="190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9640" y="1739880"/>
              <a:ext cx="3124440" cy="1635120"/>
            </a:xfrm>
            <a:custGeom>
              <a:avLst/>
              <a:gdLst/>
              <a:ahLst/>
              <a:rect l="l" t="t" r="r" b="b"/>
              <a:pathLst>
                <a:path w="1968" h="1030">
                  <a:moveTo>
                    <a:pt x="0" y="1016"/>
                  </a:moveTo>
                  <a:cubicBezTo>
                    <a:pt x="12" y="1023"/>
                    <a:pt x="25" y="1030"/>
                    <a:pt x="36" y="1016"/>
                  </a:cubicBezTo>
                  <a:cubicBezTo>
                    <a:pt x="47" y="1002"/>
                    <a:pt x="26" y="963"/>
                    <a:pt x="64" y="932"/>
                  </a:cubicBezTo>
                  <a:cubicBezTo>
                    <a:pt x="102" y="901"/>
                    <a:pt x="191" y="863"/>
                    <a:pt x="264" y="828"/>
                  </a:cubicBezTo>
                  <a:cubicBezTo>
                    <a:pt x="337" y="793"/>
                    <a:pt x="433" y="754"/>
                    <a:pt x="504" y="720"/>
                  </a:cubicBezTo>
                  <a:cubicBezTo>
                    <a:pt x="575" y="686"/>
                    <a:pt x="621" y="658"/>
                    <a:pt x="688" y="624"/>
                  </a:cubicBezTo>
                  <a:cubicBezTo>
                    <a:pt x="755" y="590"/>
                    <a:pt x="853" y="555"/>
                    <a:pt x="908" y="516"/>
                  </a:cubicBezTo>
                  <a:cubicBezTo>
                    <a:pt x="963" y="477"/>
                    <a:pt x="931" y="439"/>
                    <a:pt x="1016" y="392"/>
                  </a:cubicBezTo>
                  <a:cubicBezTo>
                    <a:pt x="1101" y="345"/>
                    <a:pt x="1319" y="277"/>
                    <a:pt x="1416" y="232"/>
                  </a:cubicBezTo>
                  <a:cubicBezTo>
                    <a:pt x="1513" y="187"/>
                    <a:pt x="1508" y="159"/>
                    <a:pt x="1600" y="120"/>
                  </a:cubicBezTo>
                  <a:cubicBezTo>
                    <a:pt x="1692" y="81"/>
                    <a:pt x="1830" y="40"/>
                    <a:pt x="196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9640" y="2457360"/>
              <a:ext cx="3117960" cy="1130400"/>
            </a:xfrm>
            <a:custGeom>
              <a:avLst/>
              <a:gdLst/>
              <a:ahLst/>
              <a:rect l="l" t="t" r="r" b="b"/>
              <a:pathLst>
                <a:path w="1964" h="712">
                  <a:moveTo>
                    <a:pt x="0" y="708"/>
                  </a:moveTo>
                  <a:cubicBezTo>
                    <a:pt x="12" y="710"/>
                    <a:pt x="24" y="712"/>
                    <a:pt x="40" y="692"/>
                  </a:cubicBezTo>
                  <a:cubicBezTo>
                    <a:pt x="56" y="672"/>
                    <a:pt x="40" y="627"/>
                    <a:pt x="96" y="588"/>
                  </a:cubicBezTo>
                  <a:cubicBezTo>
                    <a:pt x="152" y="549"/>
                    <a:pt x="280" y="505"/>
                    <a:pt x="376" y="456"/>
                  </a:cubicBezTo>
                  <a:cubicBezTo>
                    <a:pt x="472" y="407"/>
                    <a:pt x="592" y="337"/>
                    <a:pt x="672" y="296"/>
                  </a:cubicBezTo>
                  <a:cubicBezTo>
                    <a:pt x="752" y="255"/>
                    <a:pt x="808" y="223"/>
                    <a:pt x="856" y="208"/>
                  </a:cubicBezTo>
                  <a:cubicBezTo>
                    <a:pt x="904" y="193"/>
                    <a:pt x="924" y="197"/>
                    <a:pt x="960" y="208"/>
                  </a:cubicBezTo>
                  <a:cubicBezTo>
                    <a:pt x="996" y="219"/>
                    <a:pt x="1019" y="262"/>
                    <a:pt x="1072" y="272"/>
                  </a:cubicBezTo>
                  <a:cubicBezTo>
                    <a:pt x="1125" y="282"/>
                    <a:pt x="1215" y="279"/>
                    <a:pt x="1280" y="268"/>
                  </a:cubicBezTo>
                  <a:cubicBezTo>
                    <a:pt x="1345" y="257"/>
                    <a:pt x="1398" y="232"/>
                    <a:pt x="1460" y="208"/>
                  </a:cubicBezTo>
                  <a:cubicBezTo>
                    <a:pt x="1522" y="184"/>
                    <a:pt x="1568" y="159"/>
                    <a:pt x="1652" y="124"/>
                  </a:cubicBezTo>
                  <a:cubicBezTo>
                    <a:pt x="1736" y="89"/>
                    <a:pt x="1850" y="44"/>
                    <a:pt x="1964" y="0"/>
                  </a:cubicBez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03680" y="3200400"/>
              <a:ext cx="1584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0120" y="2684520"/>
              <a:ext cx="3582000" cy="7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Not physical dip !!!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99"/>
                  </a:solidFill>
                  <a:latin typeface="Comic Sans MS"/>
                </a:rPr>
                <a:t>Not Used…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98760" y="3063960"/>
              <a:ext cx="930240" cy="593640"/>
            </a:xfrm>
            <a:custGeom>
              <a:avLst/>
              <a:gdLst/>
              <a:ahLst/>
              <a:rect l="l" t="t" r="r" b="b"/>
              <a:pathLst>
                <a:path w="586" h="374">
                  <a:moveTo>
                    <a:pt x="0" y="374"/>
                  </a:moveTo>
                  <a:cubicBezTo>
                    <a:pt x="32" y="368"/>
                    <a:pt x="122" y="363"/>
                    <a:pt x="192" y="336"/>
                  </a:cubicBezTo>
                  <a:cubicBezTo>
                    <a:pt x="262" y="309"/>
                    <a:pt x="365" y="251"/>
                    <a:pt x="423" y="211"/>
                  </a:cubicBezTo>
                  <a:cubicBezTo>
                    <a:pt x="481" y="171"/>
                    <a:pt x="511" y="131"/>
                    <a:pt x="538" y="96"/>
                  </a:cubicBezTo>
                  <a:cubicBezTo>
                    <a:pt x="565" y="61"/>
                    <a:pt x="576" y="25"/>
                    <a:pt x="586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56000" y="3200400"/>
              <a:ext cx="930240" cy="593640"/>
            </a:xfrm>
            <a:custGeom>
              <a:avLst/>
              <a:gdLst/>
              <a:ahLst/>
              <a:rect l="l" t="t" r="r" b="b"/>
              <a:pathLst>
                <a:path w="586" h="374">
                  <a:moveTo>
                    <a:pt x="0" y="374"/>
                  </a:moveTo>
                  <a:cubicBezTo>
                    <a:pt x="32" y="368"/>
                    <a:pt x="122" y="363"/>
                    <a:pt x="192" y="336"/>
                  </a:cubicBezTo>
                  <a:cubicBezTo>
                    <a:pt x="262" y="309"/>
                    <a:pt x="365" y="251"/>
                    <a:pt x="423" y="211"/>
                  </a:cubicBezTo>
                  <a:cubicBezTo>
                    <a:pt x="481" y="171"/>
                    <a:pt x="511" y="131"/>
                    <a:pt x="538" y="96"/>
                  </a:cubicBezTo>
                  <a:cubicBezTo>
                    <a:pt x="565" y="61"/>
                    <a:pt x="576" y="25"/>
                    <a:pt x="586" y="0"/>
                  </a:cubicBezTo>
                </a:path>
              </a:pathLst>
            </a:custGeom>
            <a:noFill/>
            <a:ln w="19080">
              <a:solidFill>
                <a:srgbClr val="00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83720" y="4216320"/>
              <a:ext cx="172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3.5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1640" y="4194000"/>
              <a:ext cx="1722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2.2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rot="16200000">
            <a:off x="2939040" y="2935080"/>
            <a:ext cx="32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Tahoma"/>
              </a:rPr>
              <a:t>For 500 000 po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4520" y="641844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Rate x 10</a:t>
            </a:r>
            <a:r>
              <a:rPr b="0" lang="fr-FR" sz="2000" spc="-1" strike="noStrike" baseline="30000">
                <a:solidFill>
                  <a:srgbClr val="003399"/>
                </a:solidFill>
                <a:latin typeface="Comic Sans MS"/>
              </a:rPr>
              <a:t>16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J.E Campagne</cp:lastModifiedBy>
  <dcterms:modified xsi:type="dcterms:W3CDTF">2005-07-12T13:15:38Z</dcterms:modified>
  <cp:revision>153</cp:revision>
  <dc:subject/>
  <dc:title>SPL-Fréjus optimisation. </dc:title>
</cp:coreProperties>
</file>